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523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066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066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52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52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52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3480" y="225360"/>
            <a:ext cx="7761240" cy="34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0440" y="800280"/>
            <a:ext cx="764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421840" y="6611760"/>
            <a:ext cx="63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10680" y="6611760"/>
            <a:ext cx="73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5240" y="6553080"/>
            <a:ext cx="880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68360" y="6537240"/>
            <a:ext cx="8496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erufsakademie Oldenburg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rogrammierung I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 Übersicht                         Dietrich Bole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004AE6B4-3162-487B-B356-A3CA12156CD7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7921800" y="304920"/>
          <a:ext cx="993600" cy="59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21800" y="304920"/>
                    <a:ext cx="99360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rogrammierung I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2401920" cy="4157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714480" y="1625760"/>
            <a:ext cx="48214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rlesung an 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rufsakademie Oldenbu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Übers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82440" y="5029200"/>
            <a:ext cx="31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618ffd"/>
                </a:solidFill>
                <a:latin typeface="Arial"/>
              </a:rPr>
              <a:t>Dr. Dietrich B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Ziele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iel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nnenlernen der Basiskonzepte der Programmi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grammierung I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erative Programmi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grammierung II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bjektorientierte Programmi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lernen des sauberen Algorithmen- / Programmentwur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herrschung der Programmiersprache 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e Ziel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nerelle Einführung in die EDV / Informatik / Rechnernutz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swendiglernen von syntaktischen Feinhe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Inhalte (1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ktur und Inhal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E 1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lagen der Programmi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E 2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führung in das Hamster-Mod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E 3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xdia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E 4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weisungen und Programme (Hamster-Mode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E 5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zeduren (Hamster-Mode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E 6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sagenlog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E 7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trollstrukturen (Hamster-Mode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E 8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lesche Funktionen (Hamster-Mode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E 9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entwurf (Hamster-Mode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E 10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n (Hamster-Mode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Inhalte (2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E 11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führung in 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E 12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ava-Programme und –Entwicklungswerkze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E 13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ypen, Operatoren und Ausdrüc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E 14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weis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E 15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unktionen und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E 16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ku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E 17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E 18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ferenzdatenty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E 19: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bu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18T10:43:32Z</dcterms:created>
  <dc:creator>SWL</dc:creator>
  <dc:description/>
  <cp:keywords/>
  <dc:language>en-US</dc:language>
  <cp:lastModifiedBy>Dietrich Boles</cp:lastModifiedBy>
  <cp:lastPrinted>2000-09-04T14:51:16Z</cp:lastPrinted>
  <dcterms:modified xsi:type="dcterms:W3CDTF">2005-12-21T11:42:29Z</dcterms:modified>
  <cp:revision>59</cp:revision>
  <dc:subject/>
  <dc:title>gmds ‘96, Bonn, 18.9.96</dc:title>
</cp:coreProperties>
</file>