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523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3480" y="225360"/>
            <a:ext cx="7761240" cy="34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0440" y="800280"/>
            <a:ext cx="764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21840" y="6611760"/>
            <a:ext cx="63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10680" y="6611760"/>
            <a:ext cx="73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5240" y="6553080"/>
            <a:ext cx="880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68360" y="6537240"/>
            <a:ext cx="849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erufsakademie Oldenbur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ogrammierung I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oolesche Funktione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trich Bol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59E67E91-78EF-4C65-858F-350DC492D6A4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921800" y="304920"/>
          <a:ext cx="993600" cy="59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1800" y="304920"/>
                    <a:ext cx="99360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rogrammierung I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2401920" cy="4157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19160" y="1341360"/>
            <a:ext cx="482148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rlesung an 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rufsakademie Olden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richtseinheit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esche Funk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Hamster-Mode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82440" y="5502240"/>
            <a:ext cx="31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618ffd"/>
                </a:solidFill>
                <a:latin typeface="Arial"/>
              </a:rPr>
              <a:t>Dr. Dietrich B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odekonventione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0200" y="1066320"/>
            <a:ext cx="77965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5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nktionsname: Anfangsbuchstabe klein; Anfangsbuchstaben neuer Wortbestandteile gro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nktionskopf und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n eine Ze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terhalb des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nere Anweisungen um 4 Spalten einrüc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inter Funktionsnamen kein Leerz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nktionsdefinition und -aufruf: Zwischen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kein Leerz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nktionsdefinition: Hinter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 Leerz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hrere Prozedur- und Funktionsdefinitionen jeweils durch Leerzeile tre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ufgabe 1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066680"/>
            <a:ext cx="8370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gab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geben ein beliebiges Territorium ohne innere Mauern. Der Hamster sitzt in der linken unteren Ecke. Er soll alle Körner fressen. Er darf kein Feld zweimal betre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ispiellandscha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700360" y="3284640"/>
          <a:ext cx="3744720" cy="30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3284640"/>
                    <a:ext cx="374472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ufgabe 2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066680"/>
            <a:ext cx="8370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gab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Hamster sitzt vor einer unregelmäßigen Mulde (ohne Überhänge), die mit Körnern gefüllt ist. Er soll alle Körner einsammel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ispiellandscha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627280" y="3500280"/>
          <a:ext cx="3135240" cy="25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3500280"/>
                    <a:ext cx="313524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Gliederung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0920" y="1052640"/>
            <a:ext cx="41050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turn-Anwei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st-Funk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r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iteneffe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1052640"/>
            <a:ext cx="410508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konven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fga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0200" y="1066320"/>
            <a:ext cx="83725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zedur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 neuer Befeh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st-Funktio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 neuer Testbefeh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oolesche Funktion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nktionen, die einen Wahrheitswert lief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mauerDa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chtsFrei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uenfKoernerDa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linksFrei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48000" y="4254480"/>
            <a:ext cx="38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f (linksFrei(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linksU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63de8"/>
                </a:solidFill>
                <a:latin typeface="Arial"/>
              </a:rPr>
              <a:t>return-Anweisung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635280" y="1197000"/>
            <a:ext cx="4896000" cy="4070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5800" y="11253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5445000"/>
            <a:ext cx="8135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anti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Ausdruck wird ausgewertet und die Funktion unmittelbar verlassen. Geliefert wird der Wert des Ausdru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3575160"/>
            <a:ext cx="39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satzbedingu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rf nur in einer booleschen Funktion verwende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Test-Funktionen / Definitio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132000" y="990720"/>
            <a:ext cx="4896000" cy="4135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48440" y="5229360"/>
            <a:ext cx="72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satzbedingu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n jedem möglichen Weg durch den Rum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s eine boolesche return-Anweisung steh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1253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7080" y="599616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manti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s wird eine neue Funktion eingefüh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Test-Funktionen / Aufruf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76720" y="907920"/>
            <a:ext cx="5038560" cy="4554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2720" y="11253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2720" y="5300640"/>
            <a:ext cx="8136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anti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Funktionsrumpf wird ausgeführt. Der Wert ergibt sich au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 von der Funktion gelieferten Wer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Test-Funktionen / Beispiel 1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907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fga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s Nische suchen und hineinbegebe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5960" y="2444760"/>
            <a:ext cx="3335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boolean mauerDa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!vornFrei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boolean linksFrei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linksU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f (vornFrei(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chtsU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chtsU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18000" y="2111400"/>
            <a:ext cx="423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id main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hile (!mauerDa(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!linksFrei(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f (linksFrei(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linksU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id rechtsUm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linksU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linksU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linksU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10640" y="907920"/>
            <a:ext cx="27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ische Landscha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508720" y="1341360"/>
          <a:ext cx="194472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1341360"/>
                    <a:ext cx="194472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Test-Funktionen / Beispiel 2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227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fga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sche Landschaf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r Hamster (mit mindestens einem Korn im Mau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l entlang der Wand laufen, bis er zur Ausgangspo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urückgekehrt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2693880"/>
            <a:ext cx="4114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void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gib();  // Marki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vo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while (!kornDa(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if (rechtsFrei(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rechtsUm(); vo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 else if (vornFrei(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vo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 else if (linksFrei(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linksUm(); vo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kehrt(); vo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2895480"/>
            <a:ext cx="39625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boolean linksFrei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linksUm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if (vornFrei(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rechtsUm(); 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rechtsUm();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boolean rechtsFrei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rechtsUm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if (vornFrei(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linksUm(); 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linksUm();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443640" y="1413000"/>
          <a:ext cx="1665360" cy="133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3640" y="1413000"/>
                    <a:ext cx="1665360" cy="13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eiteneffekt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227640" y="1197000"/>
          <a:ext cx="1224000" cy="97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1197000"/>
                    <a:ext cx="122400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6227640" y="3141720"/>
          <a:ext cx="1224000" cy="97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3141720"/>
                    <a:ext cx="122400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894960" y="1417680"/>
            <a:ext cx="3198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boolean linksFrei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linksU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vornFrei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id main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f (linksFrei(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f (!linksFrei(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id main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f (linksFrei(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44920" y="548640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44920" y="358128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227640" y="5040360"/>
          <a:ext cx="1297080" cy="105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27640" y="5040360"/>
                    <a:ext cx="129708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18T10:43:32Z</dcterms:created>
  <dc:creator>SWL</dc:creator>
  <dc:description/>
  <cp:keywords/>
  <dc:language>en-US</dc:language>
  <cp:lastModifiedBy>Dietrich Boles</cp:lastModifiedBy>
  <cp:lastPrinted>2000-09-04T14:51:16Z</cp:lastPrinted>
  <dcterms:modified xsi:type="dcterms:W3CDTF">2005-10-25T16:53:01Z</dcterms:modified>
  <cp:revision>75</cp:revision>
  <dc:subject/>
  <dc:title>gmds ‘96, Bonn, 18.9.96</dc:title>
</cp:coreProperties>
</file>