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rollstruktur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78B815A-A648-4AF2-8B59-755122B8FB1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trollstruk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amster-Mod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ternativ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72400" cy="213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3959280"/>
            <a:ext cx="7991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e den booleschen Ausdruck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er Ausdruck den We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führe die true-Anweis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nfalls führe die false-Anweis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6160" y="9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ternativ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520" y="1917720"/>
            <a:ext cx="2512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maulLeer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4800" y="1932120"/>
            <a:ext cx="30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ornFrei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if (kornDa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if (!maulLeer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440" y="979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iederholungs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7840" y="1066320"/>
            <a:ext cx="7219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bis zur nächsten Wand lau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1989000"/>
          <a:ext cx="14400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14400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143000" y="3429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42900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920" y="5564160"/>
            <a:ext cx="71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lange vornFrei(): v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796000" y="1989000"/>
          <a:ext cx="12240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989000"/>
                    <a:ext cx="1224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iederholungs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514520"/>
            <a:ext cx="6232680" cy="4890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6160" y="9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iederholungs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000" y="39085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981000"/>
            <a:ext cx="7991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e den booleschen Ausdruck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chleifenbeding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e Schleifenbedingung den We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beende die Wiederholungsanwei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e Schleifenbedingung den We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führe die Anweisung (Iterationsanweisung) aus und fahre bei (1.) 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7070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32360" y="4638600"/>
          <a:ext cx="14400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638600"/>
                    <a:ext cx="14400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164360" y="4653000"/>
          <a:ext cx="12240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653000"/>
                    <a:ext cx="1224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dlosschleif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2160" y="29559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580000" y="2637000"/>
          <a:ext cx="2592360" cy="22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637000"/>
                    <a:ext cx="2592360" cy="22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schaft beliebig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bis zur nächst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 laufen und dabei alle Körner fre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6536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laufeBisZurNaechstenWandUndSamml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samml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kornDa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7219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sche Landschaf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Hamster steht vor e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lmäßigen Berg unbekan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öhe. Er soll den Gipfel erkli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208400" y="1579680"/>
          <a:ext cx="217008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0" y="1579680"/>
                    <a:ext cx="21700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57200" y="3254400"/>
            <a:ext cx="3827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aufeZumBer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Gipf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laufeZumBerg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vornFrei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Gipfe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!vornFrei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Ein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254400"/>
            <a:ext cx="396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EineStuf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rechts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727680" y="1579680"/>
          <a:ext cx="216540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7680" y="1579680"/>
                    <a:ext cx="21654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dekonventio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066320"/>
            <a:ext cx="8515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nter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 Leer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 und hinter duadischen Operatoren ein Leer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true-, false- und Iterationsanweisung möglichst immer die Blockanweisung verw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Blockanweisung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ter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nere Anweisungen um 4 Spalten einrü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anweisung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 eine Ze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chtelte Schleifen vermeiden 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du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teht links vor einer unbekannt tiefen regelmäßigen Mulde. Er soll zur tiefsten Stelle hinabsteigen und dort stehen blei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36760" y="3471840"/>
          <a:ext cx="425124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3471840"/>
                    <a:ext cx="425124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oll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sche Ausdrü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ngte 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derholungs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osschle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konven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geben ein beliebiges Territorium ohne innere Mauern. Der Hamster soll alle Körner fre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50920" y="3233880"/>
          <a:ext cx="439920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33880"/>
                    <a:ext cx="439920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ontrollstruktur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 wenn der Hamster Körner im Maul hat, soll er eines davon ab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 wenn die Kachel vor dem Hamster frei ist, soll er nach vorne gehen; andernfalls soll er sich linksum dre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nge der Hamster nicht vor einer Mauer steht, soll er wiederholt eine Kachel nach vorne ge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nge sich noch Körner auf der Kachel des Hamsters befinden, soll er wiederholt ein Korn aufneh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nge der Hamster nicht vor einer Mauer steht und er noch Körner im Maul hat, soll er wiederholt eine Kachel nach vorne gehen und jeweils ein Korn ab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ster-Programme für eine bestimmte Klasse von Territori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stbefeh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ei Test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ung von booleschen Werten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nFrei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as Feld vor dem Hamster block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ulLeer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as Maul des Hamsters l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ornDa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t ein Korn auf der aktuellen Kach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5840" y="1628640"/>
            <a:ext cx="540216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9440" y="17002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8720" y="3860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oolesche Ausdrück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5456160" cy="475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9440" y="119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98920" y="57801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he Aussagenlog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lockan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546960" cy="286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9440" y="119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4834080"/>
            <a:ext cx="79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fassung mehrerer Anweisungen zu ei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usammengesetzten) 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Leeran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305000"/>
            <a:ext cx="6553080" cy="327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9440" y="119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8340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Auswirkungen auf den Programmab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dingte 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581120"/>
            <a:ext cx="6970680" cy="474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6160" y="9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dingte 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31129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7680" y="3787920"/>
            <a:ext cx="264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ornFrei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!maulLeer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3686040"/>
            <a:ext cx="422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kornDa() &amp;&amp; 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kornDa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981000"/>
            <a:ext cx="7991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e den booleschen Ausdruck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falls der Ausdruck den We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führe die true-Anweis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25T16:55:41Z</dcterms:modified>
  <cp:revision>70</cp:revision>
  <dc:subject/>
  <dc:title>gmds ‘96, Bonn, 18.9.96</dc:title>
</cp:coreProperties>
</file>