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480" y="225360"/>
            <a:ext cx="776124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0440" y="800280"/>
            <a:ext cx="764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1840" y="6611760"/>
            <a:ext cx="63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0680" y="6611760"/>
            <a:ext cx="73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553080"/>
            <a:ext cx="88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6537240"/>
            <a:ext cx="849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grammierung 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ussagenlogik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trich Bol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0A3652B9-6B0D-4B38-B575-58FE2C02CB3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921800" y="304920"/>
          <a:ext cx="99360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1800" y="304920"/>
                    <a:ext cx="9936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ung I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40192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19160" y="1625760"/>
            <a:ext cx="48214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lesung an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richtseinheit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sagenlog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2440" y="550224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18ffd"/>
                </a:solidFill>
                <a:latin typeface="Arial"/>
              </a:rPr>
              <a:t>Dr. Dietrich B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7600" y="1481040"/>
            <a:ext cx="32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Q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3040" y="3100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71560" y="3100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0360" y="309564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P </a:t>
            </a: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Q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entweder-o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03040" y="3886200"/>
            <a:ext cx="363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3240" y="3886200"/>
            <a:ext cx="363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65000" y="3886200"/>
            <a:ext cx="729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3789360"/>
            <a:ext cx="35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306864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306864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23640" y="1197000"/>
            <a:ext cx="310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 || Q) &amp;&amp; (!P || !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(!(P || Q) || ! (!P || !Q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(!P &amp;&amp; !Q || (P &amp;&amp; 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!P &amp;&amp; Q) || (P &amp;&amp; !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57640" y="4025880"/>
            <a:ext cx="36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26160" y="4005360"/>
            <a:ext cx="36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iede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53276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s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hrheitstaf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 von Auss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enschaften von Auss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Äquivalenz von Auss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ssag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1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654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sag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oolescher Ausdruc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tz, dem eindeutig ein Wahrheitswert wahr (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oder falsch (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zugeordnet werden k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0360" indent="-2926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sage: "Ein Tisch ist ein Möbelstück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0360" indent="-2926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Aussage: "Geh nach Haus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036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knüpfung von Aussagen durch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perato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gation (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Tisch is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öbelstü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junktion (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Tisch ist ein Möbelstück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 Hase ist ein Fis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junktion (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Tisch ist ein Möbelstück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 Hase ist ein Fis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Wahrheitstafel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71400"/>
            <a:ext cx="8305920" cy="84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und Q seinen beliebige Auss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3527280"/>
            <a:ext cx="6794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yntax von Aussag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557360"/>
            <a:ext cx="5155920" cy="398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93120" y="2039760"/>
            <a:ext cx="292320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 &amp;&amp;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 ||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 || (!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 || (!Q &amp;&amp; 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 || !Q &amp;&amp;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 || !(Q &amp;&amp; 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 || Q) &amp;&amp;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igenschaften von Aussag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mutativ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soziativ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tributiv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ioritä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!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&amp;&amp;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||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soziativitä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echts;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l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utologi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P || !P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mmer tr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derspruch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P &amp;&amp; !P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mmer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9880" y="1066680"/>
            <a:ext cx="3543480" cy="1359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9880" y="2438280"/>
            <a:ext cx="5067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Äquivalenz von Aussagen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0160" y="114300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 zeige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!P &amp;&amp; !Q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!(P || 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0920" y="2814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2814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4760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!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00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!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0040" y="2814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!P &amp;&amp; !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96560" y="281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 ||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78760" y="2814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!(P || 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8600" y="2743200"/>
            <a:ext cx="8763120" cy="3048120"/>
            <a:chOff x="228600" y="2743200"/>
            <a:chExt cx="8763120" cy="3048120"/>
          </a:xfrm>
        </p:grpSpPr>
        <p:sp>
          <p:nvSpPr>
            <p:cNvPr id="74" name=""/>
            <p:cNvSpPr/>
            <p:nvPr/>
          </p:nvSpPr>
          <p:spPr>
            <a:xfrm>
              <a:off x="228600" y="3353040"/>
              <a:ext cx="876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3000" y="27432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28800" y="27432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66880" y="27432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05320" y="27432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86400" y="27432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86600" y="27432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05120" y="27432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62720" y="27432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10920" y="3600360"/>
            <a:ext cx="363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11120" y="3600360"/>
            <a:ext cx="363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73240" y="3600360"/>
            <a:ext cx="363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11320" y="3600360"/>
            <a:ext cx="363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4840" y="3600360"/>
            <a:ext cx="363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1720" y="3600360"/>
            <a:ext cx="363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16840" y="3600360"/>
            <a:ext cx="363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495680" y="5943600"/>
            <a:ext cx="3657600" cy="612000"/>
            <a:chOff x="4495680" y="5943600"/>
            <a:chExt cx="3657600" cy="612000"/>
          </a:xfrm>
        </p:grpSpPr>
        <p:sp>
          <p:nvSpPr>
            <p:cNvPr id="91" name=""/>
            <p:cNvSpPr/>
            <p:nvPr/>
          </p:nvSpPr>
          <p:spPr>
            <a:xfrm>
              <a:off x="6126120" y="609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95680" y="59436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95680" y="617184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153280" y="59436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3920" y="200988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weis durch Wahrheitstafel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Äquivalenz von Aussagen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0160" y="135720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 zeige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!P || !Q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!(P &amp;&amp; 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52260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!P || !Q 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!!(!P || !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360" y="2346480"/>
            <a:ext cx="504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weis durch Äquivalenzumformun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58200" y="3124080"/>
            <a:ext cx="1582920" cy="609840"/>
            <a:chOff x="3058200" y="3124080"/>
            <a:chExt cx="1582920" cy="609840"/>
          </a:xfrm>
        </p:grpSpPr>
        <p:sp>
          <p:nvSpPr>
            <p:cNvPr id="101" name=""/>
            <p:cNvSpPr/>
            <p:nvPr/>
          </p:nvSpPr>
          <p:spPr>
            <a:xfrm>
              <a:off x="3058200" y="3124080"/>
              <a:ext cx="15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!!P </a:t>
              </a:r>
              <a:r>
                <a:rPr b="1" lang="en-US" sz="24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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81280" y="3505320"/>
              <a:ext cx="152640" cy="228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084320" y="4724280"/>
            <a:ext cx="2496960" cy="459720"/>
            <a:chOff x="1084320" y="4724280"/>
            <a:chExt cx="2496960" cy="459720"/>
          </a:xfrm>
        </p:grpSpPr>
        <p:sp>
          <p:nvSpPr>
            <p:cNvPr id="104" name=""/>
            <p:cNvSpPr/>
            <p:nvPr/>
          </p:nvSpPr>
          <p:spPr>
            <a:xfrm>
              <a:off x="1084320" y="47242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s. Folie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276720" y="4724280"/>
              <a:ext cx="304560" cy="1526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762560" y="5486040"/>
            <a:ext cx="1818720" cy="612360"/>
            <a:chOff x="1762560" y="5486040"/>
            <a:chExt cx="1818720" cy="612360"/>
          </a:xfrm>
        </p:grpSpPr>
        <p:sp>
          <p:nvSpPr>
            <p:cNvPr id="107" name=""/>
            <p:cNvSpPr/>
            <p:nvPr/>
          </p:nvSpPr>
          <p:spPr>
            <a:xfrm>
              <a:off x="1762560" y="5638680"/>
              <a:ext cx="15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!!P </a:t>
              </a:r>
              <a:r>
                <a:rPr b="1" lang="en-US" sz="24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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352680" y="5486040"/>
              <a:ext cx="228600" cy="228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4737240"/>
            <a:ext cx="2743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!(P &amp;&amp; 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411480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!(!!P &amp;&amp; !!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7040" y="135720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 zeige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!(P || Q &amp;&amp; !R)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!P &amp;&amp; (!Q ||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4400" y="23684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P &amp;&amp; !(Q&amp;&amp;!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34760" y="229716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P &amp;&amp; !(Q &amp;&amp; !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0:43:32Z</dcterms:created>
  <dc:creator>SWL</dc:creator>
  <dc:description/>
  <cp:keywords/>
  <dc:language>en-US</dc:language>
  <cp:lastModifiedBy>Dietrich Boles</cp:lastModifiedBy>
  <cp:lastPrinted>2000-09-04T14:51:16Z</cp:lastPrinted>
  <dcterms:modified xsi:type="dcterms:W3CDTF">2005-12-21T11:41:32Z</dcterms:modified>
  <cp:revision>59</cp:revision>
  <dc:subject/>
  <dc:title>gmds ‘96, Bonn, 18.9.96</dc:title>
</cp:coreProperties>
</file>