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zedur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3980C6D-121B-4FFD-ADE9-99FA1B69C9D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19160" y="1341360"/>
            <a:ext cx="48214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zed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amster-Mod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Vorteil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6899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ile von Prozedu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sere Übersichtlichkeit von Progra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Lösung von Teil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zeinspa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achere Fehlerbeseiti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derverwend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dekonvention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0200" y="1066320"/>
            <a:ext cx="7796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durname: Anfangsbuchstabe klein; Anfangsbuchstaben neuer Wortbestandteile gro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durkopf und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eine Z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halb d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e Anweisungen um 4 Spalten einrü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 Prozedurnamen kein Leer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durdefinition und -aufruf: Zwische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in Leer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durdefinition: Hint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Leer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duraufruf: Hint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in Leer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Prozedurdefinitionen durch Leerzeile tre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560920" y="3500280"/>
          <a:ext cx="2395800" cy="23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0920" y="3500280"/>
                    <a:ext cx="23958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oll auf allen Kacheln der beiden Diagonalen ein Korn ablegen. Er hat 9 Körner im Ma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09680" y="3500280"/>
          <a:ext cx="2398680" cy="23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9680" y="3500280"/>
                    <a:ext cx="2398680" cy="23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eiben Sie drei Prozeduren, mit deren Hilfe der Hamster die Zahlen 1, 2 und 3 mit Körnern ins Territorium zeichnen kann. Nutzen Sie die Prozeduren in einem Programm, in dem der Hamster die Zahl 32213 in ein Territorium 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92360" y="3327480"/>
          <a:ext cx="5400720" cy="24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327480"/>
                    <a:ext cx="540072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44654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zedur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zeduraufr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 mit Prozed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ile von Prozed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konven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Motiv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oll zwei Kö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samme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68460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 linksUm(); 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 linksUm(); 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44337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cht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5043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cht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714640" y="4648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14640" y="5257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32360" y="1341360"/>
          <a:ext cx="3219480" cy="22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341360"/>
                    <a:ext cx="321948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Defini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84360" y="2050920"/>
            <a:ext cx="5256360" cy="28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1560" y="1219320"/>
            <a:ext cx="70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zedur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Vereinbarung eines neuen Befeh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5840" y="18194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2400" y="5013360"/>
            <a:ext cx="49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wird ein neuer Befehl eingefüh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Aufruf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6200" y="2637000"/>
            <a:ext cx="6554880" cy="1946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0480" y="121932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zeduraufru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fruf eines selbstdefinierten Befeh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5840" y="20588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960" y="4581360"/>
            <a:ext cx="8169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m Aufruf einer Prozedur wird die Anweisungssequenz d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zedurrumpfes ausgefüh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Program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160" y="121932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 (mit Prozedure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2263680"/>
            <a:ext cx="7848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Beispiel 1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130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ösung 1 des Motivations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oll zwei Kö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samme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3836880"/>
            <a:ext cx="283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recht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recht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34016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rechtsUm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219640" y="1197000"/>
          <a:ext cx="302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02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Beispiel 1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130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ösung 2 des Motivations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oll zwei Kö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samme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2602080"/>
            <a:ext cx="2838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wei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cht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wei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cht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wei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zweiVo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645000"/>
            <a:ext cx="373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rechtsUm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keh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kehr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219640" y="1197000"/>
          <a:ext cx="302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02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Beispiel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scha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geben sei das folgende Territor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 Hamster soll den Berg erklim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70280"/>
            <a:ext cx="4419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aufeZumBer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klimmeErsteStuf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klimmeZweiteStuf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klimmeDritteStuf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klimmeGipfe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laufeZumBerg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erklimmeErsteStuf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klimmeStuf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3038400"/>
            <a:ext cx="44960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erklimmeZweiteStuf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klimmeStuf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erklimmeDritteStuf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klimmeStuf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erklimmeGipfel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klimmeStuf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erklimmeStuf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inksUm(); 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inksUm();linksUm();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940360" y="1512720"/>
          <a:ext cx="21700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512720"/>
                    <a:ext cx="21700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0-07T06:48:57Z</dcterms:modified>
  <cp:revision>63</cp:revision>
  <dc:subject/>
  <dc:title>gmds ‘96, Bonn, 18.9.96</dc:title>
</cp:coreProperties>
</file>