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weisungen und Programm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ADB5E38-D28B-4517-963C-B14B06F4FC2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isungen und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amster-Mod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ommenta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8487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5995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ha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geben sei das folge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mster-Territor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Hamster soll zwei Kö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sammel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08040" y="3789360"/>
            <a:ext cx="595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friss erstes K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 vor(); 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 friss zweites Ko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inksUm(); vor(); vor(); 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16360" y="1557360"/>
          <a:ext cx="32403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32403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6643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ha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geben sei das folgende Territor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Hamster habe vier Körner im Mau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soll in jeder Ecke eins ablegen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eine Ausgangssituation zurückke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15040" y="1628640"/>
          <a:ext cx="134460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1628640"/>
                    <a:ext cx="1344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22560"/>
            <a:ext cx="7467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// begib dich an den 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 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// laufe in die rechte untere Ec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 vor(); vor(); vor(); gib(); 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// laufe in die rechte obere Ec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 vor(); vor(); gib(); 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// laufe in die linke obere Ec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 vor(); vor(); vor(); vor(); gib(); 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// laufe in die linke untere Ec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 vor(); vor(); gib(); 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// begib dich in die Ausgangsposition zur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r(); linksUm(); vor(); linksUm(); links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4280" y="2701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r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52720" y="27018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ch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54720" y="1628640"/>
          <a:ext cx="134964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720" y="1628640"/>
                    <a:ext cx="1349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dekonvention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0200" y="1066320"/>
            <a:ext cx="7796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Lesbarkeit des Codes 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eine 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halb 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e Anweisungen um 4 Spalten einrü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 Zei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erzeile vor Kommen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chskommentare folgendermaßen strukturie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* Kom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11280" y="3789360"/>
          <a:ext cx="424368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789360"/>
                    <a:ext cx="424368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geben sei das folgende Hamster-Territorium mit einem Slalom-Parcours. Der Hamster soll die 2 Körner (Skistöck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ufnehmen, den Slalom-Parcours bewältigen und am Ziel die Körner wieder able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teht irgendwo mit Blickrichtung Osten in einem mauerlosen Territorium. Er hat 11 Körner im Maul. Er soll wie unten skizziert einen Körner-Weihnachtsbaum ins Territorium zeichnen und dann zu seiner Ausgangsposition zurückke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43280" y="3586320"/>
          <a:ext cx="28908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586320"/>
                    <a:ext cx="28908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xika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üsselwö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eic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mster-Befe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08560" y="1052640"/>
            <a:ext cx="4267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men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konven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Lexikali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zugrundeliegender Zeichensatz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-Bit-Zeichensatz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e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te 128 Zeich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-Bit-Zeichens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öglichst nur ASCII-Zeichen bz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chen auf der Tastatur verwenden !!!!!!!!!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Tok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ken: lexikalische Ein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&lt;, =, &lt;=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üsselwörter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while, if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eichner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Courier New"/>
              </a:rPr>
              <a:t>Prozedurname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Courier New"/>
              </a:rPr>
              <a:t>Klassenname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teral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rue, 23, 24.5f, "hello world"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nnung von To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erzeichen (Bl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vorsc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vorsc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chlüsselwört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9800" y="1413000"/>
            <a:ext cx="825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bstract     assert     boolean       bre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yte         case       catch         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       const      continue      de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           double     else          en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tends      false      final         fin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        for        goto         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mplements   import     instanceof   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erface    long       native       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ull         package    private       prote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      return     short         sta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ctfp     super      switch        synchron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his         throw      throws        trans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rue         try        void          vola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Bezeichn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ennung von deklarierten Einheiten und Label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n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ablenn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durn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inn mi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strich (_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$-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chließend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ffern, Unterstriche, $-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keine Umlaute und kein ß verwen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at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aetz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_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more_money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Befehl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r Grund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Feld nach vorne sp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0 Grad nach links dr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Korn von der aktuellen Kachel auf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ib()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Korn aus dem Maul auf der akt. Kachel ab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41520" y="1700280"/>
            <a:ext cx="5946840" cy="255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8160" y="16765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440" y="3979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weisun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39280" cy="229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8160" y="11955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340160"/>
            <a:ext cx="783756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nweisungen der Anweisungssequenz wer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einander aus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381880" cy="1463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8160" y="11955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340160"/>
            <a:ext cx="783756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m Aufruf des Programms wird die Anweisungssequen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15T10:17:26Z</dcterms:modified>
  <cp:revision>62</cp:revision>
  <dc:subject/>
  <dc:title>gmds ‘96, Bonn, 18.9.96</dc:title>
</cp:coreProperties>
</file>