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yntaxdiagramm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30A100E-E97E-4AFE-BACB-3C5932FDB07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9160" y="1625760"/>
            <a:ext cx="48214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dia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yntaxdiagramme / Beispiel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828800"/>
            <a:ext cx="129528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1828800"/>
            <a:ext cx="129528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0200" y="197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65640" y="197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2209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190512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2209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657600" y="1523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523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1523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20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2936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6480" y="351648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ktisch korrekt oder nich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203720"/>
            <a:ext cx="219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aab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bbbbb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aabbba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41893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(S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657600" y="4952520"/>
            <a:ext cx="152280" cy="305280"/>
            <a:chOff x="3657600" y="4952520"/>
            <a:chExt cx="152280" cy="305280"/>
          </a:xfrm>
        </p:grpSpPr>
        <p:sp>
          <p:nvSpPr>
            <p:cNvPr id="175" name=""/>
            <p:cNvSpPr/>
            <p:nvPr/>
          </p:nvSpPr>
          <p:spPr>
            <a:xfrm>
              <a:off x="3657600" y="5181480"/>
              <a:ext cx="75960" cy="763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560" y="4952520"/>
              <a:ext cx="76320" cy="3049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657600" y="441972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72428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548640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594360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0800" y="480060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{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|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, n&gt;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yntaxdiagramme / Beispiel 3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133524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a 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} | n ist natürliche Zahl oder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ist natürliche Zah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3695760"/>
            <a:ext cx="9903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695760"/>
            <a:ext cx="9903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3695760"/>
            <a:ext cx="9903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3695760"/>
            <a:ext cx="9903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962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3962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3962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3962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91520" y="3695760"/>
            <a:ext cx="9903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962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30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362320" y="3276360"/>
            <a:ext cx="4495680" cy="686160"/>
            <a:chOff x="2362320" y="3276360"/>
            <a:chExt cx="4495680" cy="686160"/>
          </a:xfrm>
        </p:grpSpPr>
        <p:sp>
          <p:nvSpPr>
            <p:cNvPr id="196" name=""/>
            <p:cNvSpPr/>
            <p:nvPr/>
          </p:nvSpPr>
          <p:spPr>
            <a:xfrm flipV="1">
              <a:off x="6858000" y="3276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62320" y="3276720"/>
              <a:ext cx="44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32767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133720" y="3962160"/>
            <a:ext cx="4876560" cy="609840"/>
            <a:chOff x="2133720" y="3962160"/>
            <a:chExt cx="4876560" cy="609840"/>
          </a:xfrm>
        </p:grpSpPr>
        <p:sp>
          <p:nvSpPr>
            <p:cNvPr id="200" name=""/>
            <p:cNvSpPr/>
            <p:nvPr/>
          </p:nvSpPr>
          <p:spPr>
            <a:xfrm>
              <a:off x="2133720" y="3962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33720" y="4572000"/>
              <a:ext cx="48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010280" y="3962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381880" y="3962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162920" y="3276360"/>
            <a:ext cx="1371600" cy="686160"/>
            <a:chOff x="7162920" y="3276360"/>
            <a:chExt cx="1371600" cy="686160"/>
          </a:xfrm>
        </p:grpSpPr>
        <p:sp>
          <p:nvSpPr>
            <p:cNvPr id="205" name=""/>
            <p:cNvSpPr/>
            <p:nvPr/>
          </p:nvSpPr>
          <p:spPr>
            <a:xfrm flipV="1">
              <a:off x="8534520" y="3276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162920" y="32767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920" y="32767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NF und EBNF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us-Naur-For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k zur textuellen Darstellung kontextfreier Grammat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ung von Ersetzungsregeln (Produktio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itzen linke und rechte 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ke Seite: Nichtterminal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terminalsymbol: durch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 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kennzeich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ternativen: durch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kennzeich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psilon): leere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N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weiterung der BNF (Abkürzungsmöglichk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[...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eute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e in Klammern können auch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gf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...}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eute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e in Klammern können beliebig of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uch Null mal) wiederhol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NF / Beispie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N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040" y="2133720"/>
            <a:ext cx="74959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Zoo&gt;                  ::= "Schlange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Säugetiere-und-meh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Säugetiere-und-mehr&gt;  ::= &lt;Säugetier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Pinguin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Säugetiere-und-meh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Säugetier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Delphin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Säugetiere&gt;           ::= "Elephante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 "Affe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BNF / Beispie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N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60480" y="2498760"/>
            <a:ext cx="6886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Zoo&gt;          ::= "Schlange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Säugetier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"Pinguine" &lt;Säugetiere&gt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Delphin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Säugetiere&gt;   ::= "Elephante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 "Affe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1600200"/>
            <a:ext cx="11430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19320" y="166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1628640"/>
            <a:ext cx="114300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440" y="16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0280" y="1676520"/>
            <a:ext cx="11430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67480" y="1716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62120" y="1902960"/>
            <a:ext cx="9144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952880" y="11426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371600" y="11430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143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73520" y="1905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0920" y="1370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2971800"/>
            <a:ext cx="11430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164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29000" y="2895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29000" y="2742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3276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886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733920" y="3276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4040" y="286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16480" y="4340160"/>
            <a:ext cx="5718600" cy="2090520"/>
            <a:chOff x="816480" y="4340160"/>
            <a:chExt cx="5718600" cy="2090520"/>
          </a:xfrm>
        </p:grpSpPr>
        <p:sp>
          <p:nvSpPr>
            <p:cNvPr id="242" name=""/>
            <p:cNvSpPr/>
            <p:nvPr/>
          </p:nvSpPr>
          <p:spPr>
            <a:xfrm>
              <a:off x="816480" y="4340160"/>
              <a:ext cx="373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ntaktisch korrekt oder nicht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03480" y="4867200"/>
              <a:ext cx="237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xzy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zzzyxzzzy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xxxyyy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xyzxxyyz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08800" y="4873680"/>
              <a:ext cx="1826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xzxzx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xy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xyxzu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xxExxy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843280" y="1916280"/>
            <a:ext cx="64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93080" y="167148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59920" y="171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191628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44000" y="19162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187280" y="907920"/>
            <a:ext cx="561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7280" y="90648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04000" y="907920"/>
            <a:ext cx="0" cy="10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8400" y="1336680"/>
            <a:ext cx="629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 = { (y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| n ist natürliche Zahl oder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, j sind natürliche Zahle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9760" y="2682720"/>
            <a:ext cx="76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tellen Sie ein Syntaxdiagramm und eine EBNF für 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42674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NF und EB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xikal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ültige Zeichen und Wörter der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er Aufbau von Sätzen der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ung von Sätzen der Spr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agma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atzbereich einer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800" y="39736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el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40120" y="39592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k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l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5480" y="4035600"/>
            <a:ext cx="14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ung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6560" y="403560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79240" y="5102280"/>
            <a:ext cx="157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kalis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can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14200" y="5178600"/>
            <a:ext cx="162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ktis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rs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86440" y="5178600"/>
            <a:ext cx="215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s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gener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343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4343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343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86000" y="4419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572000" y="4419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010280" y="4419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iler / Lexikalische Analys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fernung von Trennzeichen und Komment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eichen, die bedeutungsmäßig zusammengehöre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üsselwö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zeich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chenke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8480" y="540864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zahl &gt;= 17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= zahl-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386240"/>
            <a:ext cx="86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840" y="4352760"/>
            <a:ext cx="72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a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a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86200" y="5408640"/>
            <a:ext cx="914400" cy="533520"/>
            <a:chOff x="3886200" y="5408640"/>
            <a:chExt cx="914400" cy="533520"/>
          </a:xfrm>
        </p:grpSpPr>
        <p:sp>
          <p:nvSpPr>
            <p:cNvPr id="73" name=""/>
            <p:cNvSpPr/>
            <p:nvPr/>
          </p:nvSpPr>
          <p:spPr>
            <a:xfrm>
              <a:off x="3886200" y="59421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4680" y="54086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iler / Syntaktische Analys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führung einer Tokenfolge in Ableitungsb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uchung auf syntaktische Korrekt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stellung: Syntaxdiagramme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760" y="3868560"/>
            <a:ext cx="72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a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0080" y="28162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125520" y="3200400"/>
            <a:ext cx="4290480" cy="800640"/>
            <a:chOff x="3125520" y="3200400"/>
            <a:chExt cx="4290480" cy="800640"/>
          </a:xfrm>
        </p:grpSpPr>
        <p:sp>
          <p:nvSpPr>
            <p:cNvPr id="80" name=""/>
            <p:cNvSpPr/>
            <p:nvPr/>
          </p:nvSpPr>
          <p:spPr>
            <a:xfrm>
              <a:off x="3125520" y="35784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91120" y="3602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71480" y="359244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sdru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809520" y="3200400"/>
              <a:ext cx="7621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57800" y="3276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38680" y="32004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258160" y="5029200"/>
            <a:ext cx="1326600" cy="1394280"/>
            <a:chOff x="5258160" y="5029200"/>
            <a:chExt cx="1326600" cy="1394280"/>
          </a:xfrm>
        </p:grpSpPr>
        <p:sp>
          <p:nvSpPr>
            <p:cNvPr id="87" name=""/>
            <p:cNvSpPr/>
            <p:nvPr/>
          </p:nvSpPr>
          <p:spPr>
            <a:xfrm>
              <a:off x="5258160" y="525456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16800" y="6024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486760" y="3962520"/>
            <a:ext cx="2603880" cy="1019520"/>
            <a:chOff x="5486760" y="3962520"/>
            <a:chExt cx="2603880" cy="1019520"/>
          </a:xfrm>
        </p:grpSpPr>
        <p:sp>
          <p:nvSpPr>
            <p:cNvPr id="92" name=""/>
            <p:cNvSpPr/>
            <p:nvPr/>
          </p:nvSpPr>
          <p:spPr>
            <a:xfrm>
              <a:off x="6705720" y="3962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486760" y="4226040"/>
              <a:ext cx="2603880" cy="756000"/>
              <a:chOff x="5486760" y="4226040"/>
              <a:chExt cx="2603880" cy="756000"/>
            </a:xfrm>
          </p:grpSpPr>
          <p:sp>
            <p:nvSpPr>
              <p:cNvPr id="94" name=""/>
              <p:cNvSpPr/>
              <p:nvPr/>
            </p:nvSpPr>
            <p:spPr>
              <a:xfrm>
                <a:off x="5486760" y="4583160"/>
                <a:ext cx="77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5560" y="4583160"/>
                <a:ext cx="77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554880" y="4226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6095520" y="4495680"/>
                <a:ext cx="3812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58000" y="4419720"/>
                <a:ext cx="4572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7164000" y="4952880"/>
            <a:ext cx="1114920" cy="1470600"/>
            <a:chOff x="7164000" y="4952880"/>
            <a:chExt cx="1114920" cy="1470600"/>
          </a:xfrm>
        </p:grpSpPr>
        <p:sp>
          <p:nvSpPr>
            <p:cNvPr id="100" name=""/>
            <p:cNvSpPr/>
            <p:nvPr/>
          </p:nvSpPr>
          <p:spPr>
            <a:xfrm>
              <a:off x="7164000" y="52689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45600" y="6024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96080" y="4952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5715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752480" y="464832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278520" y="3962520"/>
            <a:ext cx="790200" cy="724320"/>
            <a:chOff x="3278520" y="3962520"/>
            <a:chExt cx="790200" cy="724320"/>
          </a:xfrm>
        </p:grpSpPr>
        <p:sp>
          <p:nvSpPr>
            <p:cNvPr id="106" name=""/>
            <p:cNvSpPr/>
            <p:nvPr/>
          </p:nvSpPr>
          <p:spPr>
            <a:xfrm>
              <a:off x="3278520" y="42879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zah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600" y="3962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yntaxdiagram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 zur grafischen Darstellung kontextfr. Grammat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no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lipsen (Token, Termin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htecke (Nichttermin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notenverbindende Pf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tretender Pfeil (Eingangsk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tretender Pfeil (Ausgangsk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läuft man ein Syntaxdiagramm von der Eingangs- zur Ausgangskante entlang den Pfeilen, dann ist die Folge der Knoteninhalte, die dabei "aufgesammelt" werden, aus dem Syntaxdiagramm ableit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yntaxdiagramme / Veranschaulich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7428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ktisch korr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angen Delp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angen Elephanten Pinguine Delp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angen Elephanten Pinguine Affen Delp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angen Elephanten Pinguine Elephanten Pinguine Delp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ktisch nicht korr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phanten Delp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angen Pingu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angen Elephanten Affen Delp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angen Pinguine Schlangen Delp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yntaxdiagramme / 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s Syntaxdiagramm (SD) besitzt eine Be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e eines Syntaxdiagramms sind Knoten (Ellipsen, Rechtecke) und Kanten (Pfe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htecke enthalten die Bezeichnung eines (anderen) Syntaxdiagra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lipsen enthalten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jeden Knoten führt genau ein Pfeil hi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 jedem Knoten führt genau ein Pfeil hin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eile dürfen sich aufspalten bzw. zusammengezogen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s SD besitzt genau eine eintretende Kante (kein Ausgangskno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s SD besitzt genau eine austretende Kante (kein Eingangskno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yntaxdiagramme / Beispiel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1600200"/>
            <a:ext cx="11430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19320" y="166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1600200"/>
            <a:ext cx="11430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48120" y="166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676520"/>
            <a:ext cx="11430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53600" y="171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62120" y="1902960"/>
            <a:ext cx="9144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905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952880" y="11426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371600" y="11430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1143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1905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0920" y="1370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971800"/>
            <a:ext cx="11430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164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895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429000" y="2742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276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886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733920" y="3276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4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16480" y="4340160"/>
            <a:ext cx="5901480" cy="2090520"/>
            <a:chOff x="816480" y="4340160"/>
            <a:chExt cx="5901480" cy="2090520"/>
          </a:xfrm>
        </p:grpSpPr>
        <p:sp>
          <p:nvSpPr>
            <p:cNvPr id="143" name=""/>
            <p:cNvSpPr/>
            <p:nvPr/>
          </p:nvSpPr>
          <p:spPr>
            <a:xfrm>
              <a:off x="816480" y="4340160"/>
              <a:ext cx="373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ntaktisch korrekt oder nicht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03480" y="4867200"/>
              <a:ext cx="255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abababc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ababcccab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a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ccccc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08800" y="4873680"/>
              <a:ext cx="2009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ab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babab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ababcd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18ffd"/>
                </a:buClr>
                <a:buFont typeface="Courier Ne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ABAB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886200" y="4876920"/>
            <a:ext cx="152280" cy="304560"/>
            <a:chOff x="3886200" y="4876920"/>
            <a:chExt cx="152280" cy="304560"/>
          </a:xfrm>
        </p:grpSpPr>
        <p:sp>
          <p:nvSpPr>
            <p:cNvPr id="147" name=""/>
            <p:cNvSpPr/>
            <p:nvPr/>
          </p:nvSpPr>
          <p:spPr>
            <a:xfrm>
              <a:off x="3886200" y="5105160"/>
              <a:ext cx="75960" cy="759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962160" y="4876920"/>
              <a:ext cx="76320" cy="3045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886200" y="548640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586728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624852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510552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548640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586728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6248520"/>
            <a:ext cx="228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0-04T15:38:25Z</dcterms:modified>
  <cp:revision>56</cp:revision>
  <dc:subject/>
  <dc:title>gmds ‘96, Bonn, 18.9.96</dc:title>
</cp:coreProperties>
</file>