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führung in das Hamster-Modell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ABB1FF0-379A-4B8C-879B-98D2DDDC0BC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58240" y="1625760"/>
            <a:ext cx="51444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 in das Hamster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den Sie den Hamster-Simulator von der Hamster-Website (www.java-hamster-modell.de) her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llieren Sie den Hamster-Simulator (für Java 1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en Sie sich mit dem Hamster-Simulator vertra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ngen Sie das Programm von Folie 8 zum Lau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rbeiten Sie die folgenden zwei Hamster-Auf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4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Hamster soll den Berg übersteigen und dabei alle drei Körner einsammel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92360" y="2492280"/>
          <a:ext cx="597672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92280"/>
                    <a:ext cx="597672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n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4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Hamster soll das Korn fress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95520" y="2082960"/>
          <a:ext cx="344484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5520" y="2082960"/>
                    <a:ext cx="34448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42674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eh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ster-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45280" y="2060640"/>
          <a:ext cx="2795400" cy="32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5280" y="2060640"/>
                    <a:ext cx="2795400" cy="32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706280" y="560880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java-hamster-modell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amster-Modell / 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ielerisches Erlernen wichtiger Programmierkonz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uerung eines virtuellen Hamsters durch eine virtuelle Land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lernen imperativer Sprachkonz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krementelle Erweiterung des "Sprachschatz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 an Java angeleh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bilder: LOGO, Karel the Ro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Learning-by-Doin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Übungs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amster-Modell / Grundlag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14600"/>
            <a:ext cx="7993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amster-Modell / Grundlag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78240" y="2921040"/>
            <a:ext cx="4146480" cy="209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96960" y="122076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Hamsteraufga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9200" y="2876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Landscha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8880" y="474804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5240" y="1700280"/>
            <a:ext cx="47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geben sei die folgende Landschaf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r Hamster soll zwei Körner fre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73840" y="5478480"/>
            <a:ext cx="29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in Hamsterprog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amster-Modell / Befehle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9240" y="133992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4 Grundbefeh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255240" y="2112840"/>
            <a:ext cx="9565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r();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ein Feld nach vorne spr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90 Grad nach links dr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imm();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ein Korn von der aktuellen Kachel auf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ib();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ein Korn aus dem Maul auf der akt. Kachel abl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amster-Modell / Befehle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4960" y="133992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Laufzeitfehler ( = Tod des Hamsters!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231840" y="2112840"/>
            <a:ext cx="8971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r();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… und der Hamster steht vor einer M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imm();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… und auf der aktuellen Kachel liegt kein K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ib();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… und der Hamster hat kein Korn im Ma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amster-Modell / Beispie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2101680"/>
            <a:ext cx="275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r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inksU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r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r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1040" y="459252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ei Körner fre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1440" y="2441520"/>
            <a:ext cx="3382920" cy="1706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0520" y="10717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ster-Auf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35960" y="1052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ster-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amster-Modell / Hamster-Simulato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ieren ü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nnenlernen von Programmentwicklungsumge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nnenlernen des Programmentwicklungsproz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ß h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onen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rogramm)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dschafts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führkompo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bu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00720" y="3354480"/>
            <a:ext cx="38876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0-17T06:23:53Z</dcterms:modified>
  <cp:revision>57</cp:revision>
  <dc:subject/>
  <dc:title>gmds ‘96, Bonn, 18.9.96</dc:title>
</cp:coreProperties>
</file>