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52360"/>
            <a:ext cx="853416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416448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066320"/>
            <a:ext cx="416448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52360"/>
            <a:ext cx="416448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52360"/>
            <a:ext cx="416448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274788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066320"/>
            <a:ext cx="274788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066320"/>
            <a:ext cx="274788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52360"/>
            <a:ext cx="274788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52360"/>
            <a:ext cx="274788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52360"/>
            <a:ext cx="274788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06632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416448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066320"/>
            <a:ext cx="416448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23480" y="225360"/>
            <a:ext cx="7761240" cy="347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416448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066320"/>
            <a:ext cx="416448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52360"/>
            <a:ext cx="416448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416448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066320"/>
            <a:ext cx="416448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52360"/>
            <a:ext cx="416448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416448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066320"/>
            <a:ext cx="416448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52360"/>
            <a:ext cx="853416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04920" y="106632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62040" indent="-228600"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81080" indent="-228600"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8108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8108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90440" y="800280"/>
            <a:ext cx="7645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421840" y="6611760"/>
            <a:ext cx="636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410680" y="6611760"/>
            <a:ext cx="73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65240" y="6553080"/>
            <a:ext cx="880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468360" y="6537240"/>
            <a:ext cx="84963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Berufsakademie Oldenburg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Programmierung I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Referenzdatentypen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Dietrich Boles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Seite </a:t>
            </a:r>
            <a:fld id="{46AF3DC6-4D19-4691-9F15-085D4D454A7D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" name=""/>
          <p:cNvGraphicFramePr/>
          <p:nvPr/>
        </p:nvGraphicFramePr>
        <p:xfrm>
          <a:off x="7921800" y="304920"/>
          <a:ext cx="993600" cy="595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921800" y="304920"/>
                    <a:ext cx="993600" cy="59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Programmierung I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755640" y="1557360"/>
            <a:ext cx="2401920" cy="41576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720960" y="1341360"/>
            <a:ext cx="4821480" cy="32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orlesung an d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erufsakademie Oldenbur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terrichtseinheit 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ferenzdatentyp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82440" y="5502240"/>
            <a:ext cx="316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618ffd"/>
                </a:solidFill>
                <a:latin typeface="Arial"/>
              </a:rPr>
              <a:t>Dr. Dietrich Bo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Gleichheit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int[] feld1 = {1,2,3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int[] feld2 = {1,2,3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feld1 == feld2 -&gt; false!! (Referenzverglei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// Wertevergleich == Elementverglei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static boolean equals(int[] f1, int[] f2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if (f1 == null || f2 == null) return fals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if (f1.length != f2.length) return fals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for (int i=0; i&lt;f1.length; i++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if (f1[i] != f2[i]) return fals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800600" y="1295280"/>
            <a:ext cx="6094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248520" y="1219320"/>
            <a:ext cx="2286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477120" y="1219320"/>
            <a:ext cx="2286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705720" y="1219320"/>
            <a:ext cx="2286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234120" y="121932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492600" y="121932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707160" y="121932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724640" y="105084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eld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257800" y="144792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800600" y="1828800"/>
            <a:ext cx="6094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248520" y="1752480"/>
            <a:ext cx="2286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477120" y="1752480"/>
            <a:ext cx="2286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705720" y="1752480"/>
            <a:ext cx="2286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234120" y="175248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492600" y="175248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707160" y="175248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24640" y="158436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eld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257800" y="19810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Parameterübergabe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ind bei einer Funktionsdefinition Referenzdatentypen als formale Parameter definiert, so werden als aktuelle Parameter di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eferenzen als Wert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übergeben (nicht die Elemente!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 einer Funktionen können in diesem Fall di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eferenzierten Elemente manipuliert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wer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static void init(int[] vek, int value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for (int i=0; i&lt;vek.length; i++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vek[i] = valu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public static void main(String[] a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int[] werte = new int[3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init(werte, 47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// werte[i] == 47 -&gt; tr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248520" y="5867280"/>
            <a:ext cx="609480" cy="38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858000" y="5867280"/>
            <a:ext cx="609480" cy="38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467480" y="5867280"/>
            <a:ext cx="609840" cy="38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401160" y="553068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010640" y="553068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618680" y="553068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512120" y="5105520"/>
            <a:ext cx="4554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394040" y="476892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er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399720" y="591192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4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085520" y="591192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4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620480" y="591192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4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095880" y="3733920"/>
            <a:ext cx="2133720" cy="2743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410080" y="5410080"/>
            <a:ext cx="2819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5880" y="4800600"/>
            <a:ext cx="2133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858000" y="48006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111000" y="492120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416920" y="5056200"/>
            <a:ext cx="72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450040" y="5452920"/>
            <a:ext cx="67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He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4267080"/>
            <a:ext cx="2133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858000" y="42670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499520" y="4495680"/>
            <a:ext cx="4554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380720" y="4235400"/>
            <a:ext cx="5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ve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098040" y="431172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in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6248160" y="5181480"/>
            <a:ext cx="144756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6248520" y="4572000"/>
            <a:ext cx="1371600" cy="1295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Funktionswerte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unktionen können als Funktionswert Werte vom Referenztyp liefe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eliefert wird in diesem Fall eine Referenz (Adres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static int[] neuesFeld(int groesse, int wert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int[] feld = new int[groesse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for (int i=0; i&lt;feld.length; i++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feld[i] = wer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return fel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public static void main(String[] a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int[] f = neuesFeld(3, 47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248520" y="5867280"/>
            <a:ext cx="609480" cy="38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858000" y="5867280"/>
            <a:ext cx="609480" cy="38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467480" y="5867280"/>
            <a:ext cx="609840" cy="38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1160" y="553068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010640" y="553068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618680" y="553068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545240" y="5105520"/>
            <a:ext cx="45576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7426440" y="476892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399720" y="591192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4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085520" y="591192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4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620480" y="591192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4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095880" y="3733920"/>
            <a:ext cx="2133720" cy="2743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410080" y="5410080"/>
            <a:ext cx="2819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5880" y="4800600"/>
            <a:ext cx="2133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7424640" y="48006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111000" y="492120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416920" y="5056200"/>
            <a:ext cx="72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450040" y="5452920"/>
            <a:ext cx="67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He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095880" y="4267080"/>
            <a:ext cx="2133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858000" y="42670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7499520" y="4495680"/>
            <a:ext cx="4554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380720" y="423540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fel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098400" y="4311720"/>
            <a:ext cx="79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eu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el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flipH="1">
            <a:off x="6248520" y="4572000"/>
            <a:ext cx="1371600" cy="1295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flipH="1">
            <a:off x="6248160" y="5181480"/>
            <a:ext cx="152388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lokale Variablen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ez. des Gültigkeitsbereich von Variablen vom Referenztyp gilt dasselbe wie bei "normalen" Variabl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ie referenzierten Elemente werden durch Anwendung des 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new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Operators lebendig; sie sind solange lebendig, bis sie nicht mehr referenziert werden, also u.U. länger als die Funktion lebendig ist  (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Garbage Collec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static float[] init(int[] vek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float[] fvek = new float[vek.length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for (int i=0; i&lt;vek.length; i++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fvek[i] = vek[i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return fvek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public static void main(String[] a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int[] w1 = {9, 8, 7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float[] w2 = init(w1);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// w2[2] == 7.0F -&gt;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7010280" y="5410080"/>
            <a:ext cx="609840" cy="38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620120" y="5410080"/>
            <a:ext cx="609480" cy="38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29600" y="5410080"/>
            <a:ext cx="609480" cy="38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162920" y="514980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772760" y="514980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8380800" y="514980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588080" y="4146480"/>
            <a:ext cx="45576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469640" y="380988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947640" y="5454720"/>
            <a:ext cx="5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9.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633440" y="5454720"/>
            <a:ext cx="5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8.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8168400" y="5454720"/>
            <a:ext cx="5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7.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705720" y="3048120"/>
            <a:ext cx="2133360" cy="2743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019920" y="4419720"/>
            <a:ext cx="2819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705720" y="384192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7467480" y="38419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720480" y="396252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026760" y="40672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060600" y="4419720"/>
            <a:ext cx="64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He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705720" y="330840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467480" y="3308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7588080" y="3537000"/>
            <a:ext cx="45576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7469640" y="3276720"/>
            <a:ext cx="5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ve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707880" y="335268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in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8273880" y="4146480"/>
            <a:ext cx="45576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8155440" y="380988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8231040" y="3537000"/>
            <a:ext cx="45576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8112600" y="327672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fve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781680" y="4724280"/>
            <a:ext cx="609840" cy="38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7391520" y="4724280"/>
            <a:ext cx="609480" cy="38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8001000" y="4724280"/>
            <a:ext cx="609480" cy="38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934320" y="446400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544160" y="446400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8152200" y="446400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932880" y="476892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618680" y="476892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8153640" y="476892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6781680" y="4267080"/>
            <a:ext cx="9907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 flipH="1">
            <a:off x="6781680" y="3657600"/>
            <a:ext cx="106704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H="1">
            <a:off x="7010280" y="3657600"/>
            <a:ext cx="1447920" cy="1752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 flipH="1">
            <a:off x="7010280" y="4267080"/>
            <a:ext cx="152424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Gliederung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73200" y="1047600"/>
            <a:ext cx="519408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eferenzdatenty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che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nmerkun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Liter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Zuweis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leichhe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arame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unktionsrückgabewer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lokale Variabl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Schema (1)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eiger wie in C++ gibt es in Java nicht, aber Referenzvariab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undlage für Objektrepräs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entyp ADD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RESS-Variablen: Speicherung von Speicheradres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143000" y="3244680"/>
            <a:ext cx="3124080" cy="609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143000" y="3854520"/>
            <a:ext cx="3124080" cy="60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143000" y="4464000"/>
            <a:ext cx="3124080" cy="60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143000" y="5073480"/>
            <a:ext cx="3124080" cy="609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5683320"/>
            <a:ext cx="3124080" cy="60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209680" y="3244680"/>
            <a:ext cx="1752840" cy="60984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5073480"/>
            <a:ext cx="1600200" cy="60984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363760" y="3321000"/>
            <a:ext cx="155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RESS 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220760" y="513396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ouble 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143000" y="4464000"/>
            <a:ext cx="31240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5880" y="2844720"/>
            <a:ext cx="207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tack oder He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23000" y="43084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He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257800" y="3260880"/>
            <a:ext cx="3124080" cy="60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257800" y="3870360"/>
            <a:ext cx="3124080" cy="60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257800" y="4479840"/>
            <a:ext cx="3124080" cy="609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257800" y="5089680"/>
            <a:ext cx="3124080" cy="60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257800" y="5699160"/>
            <a:ext cx="3124080" cy="60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324480" y="3260880"/>
            <a:ext cx="1752840" cy="60948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257800" y="5073480"/>
            <a:ext cx="1600200" cy="62568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088400" y="338148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411880" y="522612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234.56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257800" y="4479840"/>
            <a:ext cx="31240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630680" y="2860560"/>
            <a:ext cx="207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tack oder He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537800" y="43243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He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743200" y="44640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743200" y="56833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807840" y="51102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0" y="44640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858000" y="56833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07840" y="57960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807840" y="45925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236840" y="51102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36840" y="57960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236840" y="45925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2640" y="51102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922640" y="57960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923000" y="461628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8351640" y="51102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351640" y="57960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8351640" y="45925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5257800" y="3701880"/>
            <a:ext cx="1295280" cy="1371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Schema (2)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883944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ADDRESS(double) v, w;    // Anlegen zweier ADDRESS-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 // Variablen auf dem St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v = new double();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 // Speicherplatzzuweisung (Hea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w = new double();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 // v und w enthalten als W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// Speicheradress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*v = 4711.0;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 // Zuweisung eines Wertes an d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// Speicheradresse, auf die v zeig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*w = *v + 34.567;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 // dito für w (</a:t>
            </a:r>
            <a:r>
              <a:rPr b="1" lang="de-DE" sz="1800" spc="-1" strike="noStrike" u="sng">
                <a:solidFill>
                  <a:srgbClr val="000000"/>
                </a:solidFill>
                <a:uFillTx/>
                <a:latin typeface="Courier New"/>
              </a:rPr>
              <a:t>Dereferenzierung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v = w ;         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 // v und w zeigen nun auf denselb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// Speicherplat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delete v;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 // Speicherplatzfreiga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Anmerkungen (1)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5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s existieren bestimmte Variablen, die lediglich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dressen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("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Referenzen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", "Zeiger") auf andere Speicherbereiche speichern kön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5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ie Kontrolle über die referenzierten Speicherbereiche liegt beim Programmierer bzw. Anwendungsprogramm, nicht beim Laufzeit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5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as Anwendungsprogramm kann zur Laufzeit entscheiden, wie viel Speicherplatz denn tatsächlich benötigt wird; diese Menge fordert es sich mittels des 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new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Operators explizit 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5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in "Garbage Collector" gibt automatisch nicht mehr benötigte Speicherbereiche fre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eferenzdatentypen in Java sind Felder und Klassen/Objek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Anmerkungen (2)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s existieren einige Unterschiede zwischen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"normalen" Variablen (Variablen von einem Standarddatentyp) und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eferenzvariablen (Variablen vom Referenzdatentyp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Liter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Zuweis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leichhe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arameterüberga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unktionsw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lokale Variab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063de8"/>
                </a:solidFill>
                <a:latin typeface="Arial"/>
              </a:rPr>
              <a:t>Literale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Literal für Referenzdatentypen: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nu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ist Default-Wert bei der Initialisierung von Referenzvariab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ntspricht: Referenzvariable zeigt auf keinen Speicherberei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int[] feld = new int[5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feld = nul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if (feld != null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feld[0] = 47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334120" y="289548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553080" y="3048120"/>
            <a:ext cx="2286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781680" y="3048120"/>
            <a:ext cx="2286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010280" y="3048120"/>
            <a:ext cx="2286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238880" y="3048120"/>
            <a:ext cx="2286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467480" y="3048120"/>
            <a:ext cx="2286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259240" y="2575080"/>
            <a:ext cx="50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el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881240" y="3976560"/>
            <a:ext cx="312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Garbage-Collector wird aktiv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 flipV="1">
            <a:off x="2361960" y="3809520"/>
            <a:ext cx="243828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Zuweisung (1)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dress-Zuweisu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int[] v = {1, 2, 3};            v[0] = -77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int[] w = {9, 8, 7, 6};         w[0] == -77 -&gt; tru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v = w; // Adress-Zuweis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i der Adress-Zuweisung werden lediglich die Referenzen kopiert, nicht die referenzierten Elem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28600" y="4832280"/>
            <a:ext cx="609480" cy="38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4832280"/>
            <a:ext cx="609840" cy="38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447920" y="4832280"/>
            <a:ext cx="609480" cy="38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82680" y="449568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90720" y="449568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98760" y="449568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990720" y="3657600"/>
            <a:ext cx="76176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14760" y="335268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228600" y="3886200"/>
            <a:ext cx="99072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81240" y="487692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065600" y="487692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00560" y="487692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211480" y="449568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819520" y="449568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27560" y="449568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819520" y="3657600"/>
            <a:ext cx="76176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743560" y="335268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2285640" y="3886200"/>
            <a:ext cx="76212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4876920"/>
            <a:ext cx="53352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743200" y="4876920"/>
            <a:ext cx="53352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276720" y="4876920"/>
            <a:ext cx="53316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809880" y="4876920"/>
            <a:ext cx="53352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286360" y="495288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895840" y="495288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430800" y="495288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965760" y="495288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724280" y="4832280"/>
            <a:ext cx="609840" cy="38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334120" y="4832280"/>
            <a:ext cx="609480" cy="38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943600" y="4832280"/>
            <a:ext cx="609480" cy="38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449568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486760" y="449568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094800" y="449568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486400" y="3657600"/>
            <a:ext cx="76212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410440" y="335268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15000" y="3886200"/>
            <a:ext cx="121932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875480" y="487692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1280" y="487692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096240" y="487692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936120" y="449568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544160" y="449568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8152200" y="449568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543800" y="3657600"/>
            <a:ext cx="76212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467840" y="335268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7009920" y="3886200"/>
            <a:ext cx="76212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934320" y="4876920"/>
            <a:ext cx="53316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467480" y="4876920"/>
            <a:ext cx="53352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001000" y="4876920"/>
            <a:ext cx="53352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534520" y="4876920"/>
            <a:ext cx="53316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010640" y="495288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620120" y="495288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155080" y="495288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690040" y="495288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572000" y="4495680"/>
            <a:ext cx="213372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4724280" y="4647960"/>
            <a:ext cx="175284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191120" y="434340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102200" y="39765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 = w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Zuweisung (2)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lement-Zuweisung (Wert-Zuweisung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int[] v = {1, 2, 3};               v[0] = -77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int[] w = {9, 8, 7, 6};            w[0] == 9 -&gt; tr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for (int i=0; i&lt;v.length, i++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v[i] = w[i]; // Element-Zuweis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i der Element-Zuweisung werden die Werte der referenzierten Elemente kopiert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28600" y="4832280"/>
            <a:ext cx="609480" cy="38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838080" y="4832280"/>
            <a:ext cx="609840" cy="38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447920" y="4832280"/>
            <a:ext cx="609480" cy="38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82680" y="449568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90720" y="449568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98760" y="449568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90720" y="3657600"/>
            <a:ext cx="76176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914760" y="335268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228600" y="3886200"/>
            <a:ext cx="99072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81240" y="487692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065600" y="487692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600560" y="487692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211480" y="449568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819520" y="449568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427560" y="449568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819520" y="3657600"/>
            <a:ext cx="76176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743560" y="335268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2285640" y="3886200"/>
            <a:ext cx="76212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09680" y="4876920"/>
            <a:ext cx="53352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743200" y="4876920"/>
            <a:ext cx="53352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276720" y="4876920"/>
            <a:ext cx="53316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4876920"/>
            <a:ext cx="53352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286360" y="495288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95840" y="495288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430800" y="495288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965760" y="495288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724280" y="4832280"/>
            <a:ext cx="609840" cy="38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334120" y="4832280"/>
            <a:ext cx="609480" cy="38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43600" y="4832280"/>
            <a:ext cx="609480" cy="38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876920" y="449568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486760" y="449568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094800" y="449568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486400" y="3657600"/>
            <a:ext cx="76212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410440" y="335268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4724280" y="3886200"/>
            <a:ext cx="99072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875480" y="487692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561280" y="487692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96240" y="487692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936120" y="449568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544160" y="449568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152200" y="449568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543800" y="3657600"/>
            <a:ext cx="76212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467840" y="335268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7009920" y="3886200"/>
            <a:ext cx="76212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934320" y="4876920"/>
            <a:ext cx="53316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467480" y="4876920"/>
            <a:ext cx="53352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8001000" y="4876920"/>
            <a:ext cx="53352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8534520" y="4876920"/>
            <a:ext cx="53316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010640" y="495288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620120" y="495288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8155080" y="495288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8690040" y="495288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191120" y="434340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10-18T10:43:32Z</dcterms:created>
  <dc:creator>SWL</dc:creator>
  <dc:description/>
  <cp:keywords/>
  <dc:language>en-US</dc:language>
  <cp:lastModifiedBy>Dietrich Boles</cp:lastModifiedBy>
  <cp:lastPrinted>2000-09-04T14:51:16Z</cp:lastPrinted>
  <dcterms:modified xsi:type="dcterms:W3CDTF">2005-11-22T18:58:13Z</dcterms:modified>
  <cp:revision>108</cp:revision>
  <dc:subject/>
  <dc:title>gmds ‘96, Bonn, 18.9.96</dc:title>
</cp:coreProperties>
</file>