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ray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E5DB333-9C0C-4A4A-BAE9-5C5DFFA82C3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olli.informatik.uni-oldenburg.de/fpsort/Animation.html" TargetMode="External"/><Relationship Id="rId2" Type="http://schemas.openxmlformats.org/officeDocument/2006/relationships/hyperlink" Target="http://olli.informatik.uni-oldenburg.de/fpsort/Animation.html" TargetMode="External"/><Relationship Id="rId3" Type="http://schemas.openxmlformats.org/officeDocument/2006/relationships/hyperlink" Target="http://olli.informatik.uni-oldenburg.de/fpsort/Animation.html" TargetMode="External"/><Relationship Id="rId4" Type="http://schemas.openxmlformats.org/officeDocument/2006/relationships/hyperlink" Target="http://olli.informatik.uni-oldenburg.de/fpsort/Animation.html" TargetMode="External"/><Relationship Id="rId5" Type="http://schemas.openxmlformats.org/officeDocument/2006/relationships/hyperlink" Target="http://olli.informatik.uni-oldenburg.de/fpsort/Animation.html" TargetMode="External"/><Relationship Id="rId6" Type="http://schemas.openxmlformats.org/officeDocument/2006/relationships/hyperlink" Target="http://olli.informatik.uni-oldenburg.de/fpsort/Animation.html" TargetMode="Externa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20960" y="1341360"/>
            <a:ext cx="48214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elderzeugung / Schema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2133720"/>
            <a:ext cx="647712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6560" y="15969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ck oder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600" y="3197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31240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7360" y="2440080"/>
            <a:ext cx="1752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2440080"/>
            <a:ext cx="1752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11480" y="210348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Zeiger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57600" y="243828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7760" y="2360520"/>
            <a:ext cx="687240" cy="23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342900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42900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342900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342900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42900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42900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42900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14760" y="32018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360" y="3200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57600" y="31989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29200" y="31971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00800" y="31957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2040" y="3193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3640" y="31924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15240" y="31910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75212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2670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42670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47242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51814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51814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3117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4800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52894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960" y="3962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1160" y="3962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866920" y="2743200"/>
            <a:ext cx="6858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4960" y="990720"/>
            <a:ext cx="56671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vektor1 = new int[8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loat[][] vektor2 = new float[3][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4280" y="2057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kto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6800" y="2057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kto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eldelemente / Zugriff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array-access&gt; ::= &lt;Bezeichn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[" &lt;int-Ausdruck&gt; "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"[" &lt;int-Ausdruck&gt; "]"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benbedingungen / Anmerku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zeichner muss gültige Feldvariable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-Ausdruck muss Wert zwischen 0 und der Anzahl der Elemente - 1 der jeweiligen Dimension liefern (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aufzeitfehle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griff auf Feldelemente nennt ma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dex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vek = new int[5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ek[0] = -2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ek[1] = vek[0] + 2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ek[vek[1]] = -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ek[5] = 56;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Laufzeitfehl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51814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51814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5181480"/>
            <a:ext cx="609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51814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51814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6800" y="4844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840" y="4844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2880" y="4844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40920" y="4844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48960" y="4844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434340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9080" y="40384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45720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eldelemente / Initialisier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lizite Initialisier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vektor = new int[5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i=0; i&lt;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vektor.length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ektor[i] = i*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efert Anzahl an Elementen (der angegebenen Dimen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lesb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418140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8140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4181400"/>
            <a:ext cx="609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418140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418140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3600" y="3844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640" y="3844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89680" y="3844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97720" y="3844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760" y="3844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343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6240" y="3038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35719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3240" y="4205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2720" y="4195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2200" y="4186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2040" y="4176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1160" y="4167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eldelemente / Initialisierung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plizite Erzeugung und Initialisier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i =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vektor = {0, 1, 4, i*i, 16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zeugt Feld mit entsprechender Elementanza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itialisiert die Ele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itialisierungswerte können durch Ausdrücke des entsprechenden Elementtyps gebildet werden (häufig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87684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3876840"/>
            <a:ext cx="6098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387684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87684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3876840"/>
            <a:ext cx="6098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7280" y="35402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05320" y="35402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3360" y="35402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1400" y="35402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29440" y="35402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3038400"/>
            <a:ext cx="7621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9920" y="2733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3267000"/>
            <a:ext cx="7632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6920" y="3900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6400" y="3890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6240" y="3881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5720" y="3871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0" y="3862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eldzerstö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va: automatisches Garbage-Collec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platz wird automatisch freigegeben, wenn nicht mehr auf Heap-Speicherplatz referenziert ("gezeigt")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vek = new int[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ek[0] 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ek = new int[5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ek[2] = 4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ek[4] = -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419112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4191120"/>
            <a:ext cx="6098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419112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6280" y="3854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3854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42360" y="3854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3038400"/>
            <a:ext cx="7617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9080" y="2733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56386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56386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5638680"/>
            <a:ext cx="609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56386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01000" y="56386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6800" y="53020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4840" y="53020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2880" y="53020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0920" y="53020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48960" y="53020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neue“ for-Schleife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Berechnen der Summe eines Zahlen-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[] zahlen = {2, 4, 6, 5, 1, 2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ystem.out.println(summe(zahlen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summe(int[] zahlen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i = 0; i &lt; zahlen.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um += zahlen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571640" y="4653000"/>
            <a:ext cx="115236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9880" y="5367240"/>
            <a:ext cx="41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chlauf über alle Array-E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neue“ for-Schleife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Berechnen der Summe eines Zahlen-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[] zahlen = {2, 4, 6, 5, 1, 2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ystem.out.println(summe(zahlen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summeNeu(int[] zahlen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zahl : zahlen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um += zah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3780000" y="4508280"/>
            <a:ext cx="10080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3680" y="4437000"/>
            <a:ext cx="415836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lauf über alle Array-E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nend bei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&lt;variable&gt; : &lt;array&gt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variable&gt; nimmt Wert 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jeweiligen Elementes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ehrdimensionale Felder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fall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an Elementen pro Dimension ist ident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loat[][] matrix = new float[2][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z=0; z &lt; matrix.length; z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s=0; s &lt; matrix[z].length; s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matrix[z][s] = z +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loat[] vektor = matrix[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ektor[1] = 3.4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45054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45054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4505400"/>
            <a:ext cx="6098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3600" y="4168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640" y="4168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89680" y="4168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3809880"/>
            <a:ext cx="7621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6400" y="3505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488628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88628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38480" y="4886280"/>
            <a:ext cx="6098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20240" y="4529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6400" y="4549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960" y="4854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13880" y="4519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07520" y="4510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20240" y="4900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13880" y="4900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07520" y="4900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00600" y="44132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rix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029200" y="4657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00600" y="4870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rix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29200" y="511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5257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51055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3240" y="4724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41148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ehrdimensionale Felder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an Elementen pro Dimension ist unterschied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loat[][] matrix = new float[2][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matrix[0] = new float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matrix[1] = new float[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z=0; z &lt;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matrix.length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 z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s=0; s &lt;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matrix[z].length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 s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matrix[z][s] = z +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54100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541008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3600" y="50734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640" y="50734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89680" y="50734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457200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4120" y="4159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579132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579132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5791320"/>
            <a:ext cx="6098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16400" y="54547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960" y="57592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00600" y="53182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rix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029200" y="556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00600" y="57754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rix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02920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480060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91440" y="5429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85440" y="5419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91440" y="5800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85440" y="5800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9080" y="5800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ehrdimensionale Felder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plizite Erzeugung und Initialisier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har[][] zeichen = { {‘a‘, ‘b‘, ‘c‘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‘A‘, ‘B‘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‘0‘, ‘1‘, ‘2‘, ‘3‘, ‘4‘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479124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479124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4791240"/>
            <a:ext cx="6098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3600" y="4454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1640" y="4454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89680" y="4454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97720" y="4454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05760" y="4454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62320" y="3952800"/>
            <a:ext cx="7617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6240" y="364824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zei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4181400"/>
            <a:ext cx="7632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3240" y="481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2720" y="4805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92200" y="4795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517212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517212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73240" y="5195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2720" y="518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19520" y="555300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555300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5553000"/>
            <a:ext cx="609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555300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57800" y="555300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3240" y="5576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2720" y="5567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92200" y="5557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2040" y="5548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1520" y="5538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16400" y="4768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14960" y="5149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3160" y="5530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560" y="1052640"/>
            <a:ext cx="41148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ukturierte Daten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mer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ldvariab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lderzeu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ldele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ldzerstö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“ for-Schle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dimensionale Fe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ehrdimensionale Felder (4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Ausgabe einer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 void print (int[][] matri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z=0; z&lt;matrix.length; z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s=0; s&lt;matrix[z].length; s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(matrix[z][s] + "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[] zahlen = {{1,2},{3,4},{5,6}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rint(zahle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4724280"/>
            <a:ext cx="129528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97160" y="490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ehrdimensionale Felder (5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Ausgabe einer Matrix (mit „neuer“ for-Schlei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void print (int[][] matrix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[] array : matrix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elem : arra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(elem + "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[][] zahlen = {{1,2},{3,4},{5,6}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rint(zahle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0120" y="4724280"/>
            <a:ext cx="129528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97160" y="490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inimum-Such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[] feld = {2,5,3,7,1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ystem.out.println(minimum(feld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minimum(int[] vekt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min = vektor[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i=1; i&lt;vektor.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vektor[i] &lt; mi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min = vektor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m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175248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8448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564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1752480"/>
            <a:ext cx="5331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1800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916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175248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5116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175248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8468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9584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1752480"/>
            <a:ext cx="5331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1820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2936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1905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53080" y="16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2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rtierung von Zahl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[] feld = {2,5,3,7,1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rint(fe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ortieren(fe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rint(fe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void print(int[] vekt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("Vektor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i=0; i&lt;vektor.length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(vektor[i] + "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175248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8448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9564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6520" y="1752480"/>
            <a:ext cx="5331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1800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916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09680" y="175248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5116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6232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175248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8468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84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76720" y="1752480"/>
            <a:ext cx="5331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1820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2936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29200" y="175248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7068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8184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62720" y="1752480"/>
            <a:ext cx="5331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0420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1536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175248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3736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4852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29400" y="175248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7088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204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920" y="1752480"/>
            <a:ext cx="5331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04400" y="1447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15560" y="179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38480" y="1905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2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Bubble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void sortieren(int[] vekt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boolean veraendert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eraendert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i=1; i&lt;vektor.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vektor[i-1] &gt; vektor[i]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help = vektor[i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ektor[i-1] = vektor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ektor[i] = hel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eraendert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while (veraender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216540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81680" y="21654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5200" y="21654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216540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81880" y="21654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01160" y="1905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934320" y="1905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467840" y="1905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360" y="1905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534520" y="1905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00440" y="2189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3960" y="2189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467480" y="2189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000640" y="2189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534160" y="2189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262260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81680" y="26226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315200" y="26226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8720" y="262260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1880" y="26226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48520" y="307980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81680" y="30798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315200" y="30798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307980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81880" y="30798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353700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81680" y="35370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15200" y="35370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848720" y="353700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81880" y="35370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48520" y="399420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81680" y="3994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15200" y="3994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8720" y="399420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81880" y="3994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445140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81680" y="44514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15200" y="44514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445140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381880" y="44514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48520" y="490860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781680" y="49086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15200" y="49086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848720" y="490860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49086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609588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 u="sng">
                <a:solidFill>
                  <a:srgbClr val="fc0128"/>
                </a:solidFill>
                <a:uFillTx/>
                <a:latin typeface="Courier New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fc0128"/>
                </a:solidFill>
                <a:uFillTx/>
                <a:latin typeface="Courier New"/>
                <a:hlinkClick r:id="rId2"/>
              </a:rPr>
              <a:t>olli.informatik.uni-oldenburg.de</a:t>
            </a:r>
            <a:r>
              <a:rPr b="0" lang="de-DE" sz="1600" spc="-1" strike="noStrike" u="sng">
                <a:solidFill>
                  <a:srgbClr val="fc0128"/>
                </a:solidFill>
                <a:uFillTx/>
                <a:latin typeface="Courier New"/>
                <a:hlinkClick r:id="rId3"/>
              </a:rPr>
              <a:t>/</a:t>
            </a:r>
            <a:r>
              <a:rPr b="0" lang="de-DE" sz="1600" spc="-1" strike="noStrike" u="sng">
                <a:solidFill>
                  <a:srgbClr val="fc0128"/>
                </a:solidFill>
                <a:uFillTx/>
                <a:latin typeface="Courier New"/>
                <a:hlinkClick r:id="rId4"/>
              </a:rPr>
              <a:t>fpsort</a:t>
            </a:r>
            <a:r>
              <a:rPr b="0" lang="de-DE" sz="1600" spc="-1" strike="noStrike" u="sng">
                <a:solidFill>
                  <a:srgbClr val="fc0128"/>
                </a:solidFill>
                <a:uFillTx/>
                <a:latin typeface="Courier New"/>
                <a:hlinkClick r:id="rId5"/>
              </a:rPr>
              <a:t>/</a:t>
            </a:r>
            <a:r>
              <a:rPr b="0" lang="de-DE" sz="1600" spc="-1" strike="noStrike" u="sng">
                <a:solidFill>
                  <a:srgbClr val="fc0128"/>
                </a:solidFill>
                <a:uFillTx/>
                <a:latin typeface="Courier New"/>
                <a:hlinkClick r:id="rId6"/>
              </a:rPr>
              <a:t>Animation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2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Selection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void sortieren(int[] zahlen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aktI = 0; aktI &lt; zahlen.length - 1; akt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minI = ak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suchI = aktI+1; suchI&lt;zahlen.length; such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zahlen[suchI] &lt; zahlen[minI]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minI = such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speicher = zahlen[akt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en[aktI] = zahlen[min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en[minI] = speich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48520" y="32576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81680" y="32576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2576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848720" y="32576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1880" y="32576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0116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432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6784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0136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53452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00440" y="3281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33960" y="3281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67480" y="3281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00640" y="3281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534160" y="3281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37148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81680" y="3714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315200" y="3714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848720" y="37148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1880" y="3714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41720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81680" y="41720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315200" y="41720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41720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81880" y="41720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46292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46292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15200" y="46292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48720" y="46292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81880" y="46292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864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81680" y="50864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15200" y="50864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48720" y="50864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1880" y="50864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55436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55436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5436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55436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1880" y="55436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60008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781680" y="6000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15200" y="6000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848720" y="60008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81880" y="6000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2 (4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Insertion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void sortieren(int[] zahlen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aktI = 1; aktI &lt; zahlen.length; akt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aktZ = zahlen[akt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vglI = aktI -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vglI &gt;= 0 &amp;&amp; zahlen[vglI] &gt; aktZ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en[vglI + 1] = zahlen[vgl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glI-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en[vglI + 1] = akt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248520" y="32576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32576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315200" y="32576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848720" y="32576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1880" y="32576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40116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3432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784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00136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53452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00440" y="3281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33960" y="3281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3281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00640" y="3281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534160" y="3281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48520" y="37148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81680" y="3714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15200" y="3714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848720" y="37148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81880" y="3714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48520" y="41720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81680" y="41720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315200" y="41720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848720" y="41720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381880" y="41720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46292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46292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15200" y="46292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848720" y="46292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81880" y="46292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50864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1680" y="50864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5200" y="50864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848720" y="50864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381880" y="50864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8520" y="55436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81680" y="55436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15200" y="55436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848720" y="55436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381880" y="55436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248520" y="60008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81680" y="6000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315200" y="6000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60008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81880" y="6000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Sie eine Funktio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mehrfa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ie als Parameter ein Array mit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Werten übergeben bekommt und die genau dan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iefert, wenn ein Wert mehrfach im Array vorhanden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feld = {2,-5,1,3,7,1}; // zum Te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f (!mehrfach(feld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"nicht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"mehrfach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 boolean mehrfach(int[] zahlen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eiben Sie ein Programm, bei dem 2 Spieler gegeneinander das bekannte Spi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-Gewin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ielen können. Vereinfachen Sie die Regeln zunächst dahingehend, dass ein Spieler das Spiel gewonnen hat, wenn er in der Horizontalen eine 4er Reihe bilden konnte (Vertikale und Diagonale fallen we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trukturierte Datentyp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her: einfache Datentypen (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nutzung: Speicherung von "einfachen" Daten in "einfachen" Variab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äufig: besonderer Zusammenhang zwischen bestimmten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nge von Zahlen, die zu sortieren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 von Personendaten (Name, Alter, Adresse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Strukturierte Datenty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Zusammenfassung mehrerer Daten zu einer Ein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el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Daten desselben Ty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Verbunde/Klass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Daten mit u.U. unterschiedlichem Ty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rra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epräsentiert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mogenes kartesisches Produk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r Aufnahme mehrere Daten 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men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de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lei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yps (genann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mentty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wobei auf die Elemente mit Hilfe eine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gegriffen w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omy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ld, Tupel, Matrix, Vektor, Tab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32756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9880" y="4327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4327560"/>
            <a:ext cx="6098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9360" y="4327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432756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8840" y="4327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32756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8680" y="4327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327560"/>
            <a:ext cx="6098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8160" y="4327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70844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9880" y="4708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708440"/>
            <a:ext cx="609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9720" y="4708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470844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8840" y="4708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708440"/>
            <a:ext cx="609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8680" y="4708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708440"/>
            <a:ext cx="609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8520" y="4708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508968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9880" y="5089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5089680"/>
            <a:ext cx="6098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9720" y="5089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508968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9200" y="5089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508968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8680" y="5089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5089680"/>
            <a:ext cx="6098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8160" y="5089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040" y="4495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040" y="4876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040" y="52578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5320" y="4038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6720" y="4038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92160" y="4038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7600" y="4038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39920" y="4038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19080" y="4098960"/>
            <a:ext cx="4198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3 x 5 - Matrix (2-dimens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lementtyp: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3 Zeilen, 5 Sp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ummerierung beginnt bei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m[0][0] =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m[0][2] ==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m[5][5] </a:t>
            </a:r>
            <a:r>
              <a:rPr b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Laufzeitfeh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nmerkung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ternative zu Arrays: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v1, v2, v3, ..., v1000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?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ist bei 100.000 Elemen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existiert kein Zusammenhang zur Laufzeit (Index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menttyp ist 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mension ist 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-, 2-, ..., n-dimensionale Arrays erlau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griff über n-dimensionale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ndom-access-Zugriff (Dateien auslesen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quenti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rays sind in Java Referenzdatentypen (wie Objek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rays werden in Java dynamisch erzeug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rays werden in Java automatisch gelöscht, wenn sie nicht mehr benutzt werden (kön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eldvariablen / Definition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arrayvar-def&gt;  ::= &lt;Typ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[" "]" { "[" "]"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Bezeichner&gt; { "," &lt;Bezeichner&gt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;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vektor1;        // ElemTyp: int,    Dim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loat[][] matrix1;    // ElemTyp: float,  Dim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har[] buchstaben;    // ElemTyp: char,   Dim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[][][] quader1, quader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ElemTyp: double, Dim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har ziffern[];       // Definitionsalternat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73920" y="1039680"/>
            <a:ext cx="16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t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73560" y="142092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m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eldvariablen / Definition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cheidung zwischen 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gentlichen Feld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variab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ldvariablen speichern die Adresse des eigentlichen Feldes: Referenz auf das Feld (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variablen sind Referenzvariabl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der Definition einer Feldvariablen wir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peicherplatz für das Feld selbst angelegt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elmehr wird ein Speicherbereich reserviert, dem mittels des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Operators Adressen zugewiesen werden können (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eiger, Felderzeug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lder werden auf dem Heap angele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 kann die Adressen weder auslesen noch auf den Adressen Operationen ausführen (wie bspw. in C oder C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fault-Initialisierung einer Feldvariablen mit dem Literal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ch explizite Initialisierung möglich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[] zahlen =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elderzeug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array-creation&gt; ::= "new" &lt;Ty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[" &lt;int-Ausdruck&gt; "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"[" &lt;int-Ausdruck&gt; "]"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benbedingung/Anmerku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erviert Speicherplatz auf dem 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-Ausdrücke bestimmen die Anzahl an Elementen der jeweiligen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ldelemente werden nicht implizit initialisier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ew int[8]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Reservierung von 8 Speicherplätzen für int-Variab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i =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ew float[i][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Reservierung von 3*2 Speicherplätzen für float-Variab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Felderzeugung / Feldvariablenzuweis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benbedingung/Anmerku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menttyp der Feldvariablen und Elementtyp des Feldes müssen gleich se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mension der Feldvariablen und Dimension des Feldes müssen gleich se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 vektor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ektor1 = new int[8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i =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loat[][] vektor2 = new float[i]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har[] alphabet = new double[26];        // Feh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oolean[] aussagen = new boolean[2][3];  // Feh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1-22T18:56:14Z</dcterms:modified>
  <cp:revision>103</cp:revision>
  <dc:subject/>
  <dc:title>gmds ‘96, Bonn, 18.9.96</dc:title>
</cp:coreProperties>
</file>