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52360"/>
            <a:ext cx="85341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5236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5236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0663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0663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523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523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523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0663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3480" y="225360"/>
            <a:ext cx="7761240" cy="34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5236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5236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52360"/>
            <a:ext cx="85341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04920" y="10663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90440" y="800280"/>
            <a:ext cx="764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421840" y="6611760"/>
            <a:ext cx="636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410680" y="6611760"/>
            <a:ext cx="73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65240" y="6553080"/>
            <a:ext cx="880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468360" y="6537240"/>
            <a:ext cx="8496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Berufsakademie Oldenburg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rogrammierung I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Funktionen und Parameter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ietrich Boles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eite </a:t>
            </a:r>
            <a:fld id="{154AB4D9-0B43-4CD6-B9C0-357AD39D7BE6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" name=""/>
          <p:cNvGraphicFramePr/>
          <p:nvPr/>
        </p:nvGraphicFramePr>
        <p:xfrm>
          <a:off x="7921800" y="304920"/>
          <a:ext cx="993600" cy="59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921800" y="304920"/>
                    <a:ext cx="993600" cy="59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Programmierung I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2401920" cy="4157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720960" y="1341360"/>
            <a:ext cx="482148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orlesung an d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rufsakademie Oldenbu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terrichtseinheit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en und Para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82440" y="5502240"/>
            <a:ext cx="316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618ffd"/>
                </a:solidFill>
                <a:latin typeface="Arial"/>
              </a:rPr>
              <a:t>Dr. Dietrich Bo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Funktionen / Aufruf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10666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&lt;Funk-Aufruf&gt; ::= &lt;Funk-Name&gt; "(" [ &lt;Param-List&gt; ] ")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1523880"/>
            <a:ext cx="8534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9000"/>
          </a:bodyPr>
          <a:p>
            <a:pPr marL="236520" indent="-236520">
              <a:lnSpc>
                <a:spcPct val="10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manti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2640" indent="-196920">
              <a:lnSpc>
                <a:spcPct val="10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ktionsaufruf ist ei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sdru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2640" indent="-196920">
              <a:lnSpc>
                <a:spcPct val="10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im Aufruf einer Funktion werden die Anweisungen im Funktionsrumpf ausgeführt, bis eine return-Anweisung ausgeführt wi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2640" indent="-196920">
              <a:lnSpc>
                <a:spcPct val="10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ch der Berechnung des Wertes des return-Ausdrucks der return-Anweisung wird die Funktion verlassen und der Wert als Funktionswert zurückgelief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3809880"/>
            <a:ext cx="853416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ispie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class FunkProb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static int funk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nt zahl = IO.readInt("Zahl: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return 2*zah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nt wert = </a:t>
            </a:r>
            <a:r>
              <a:rPr b="1" lang="de-DE" sz="1800" spc="-1" strike="noStrike" u="sng">
                <a:solidFill>
                  <a:srgbClr val="000000"/>
                </a:solidFill>
                <a:uFillTx/>
                <a:latin typeface="Courier New"/>
              </a:rPr>
              <a:t>funk()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* 4 * </a:t>
            </a:r>
            <a:r>
              <a:rPr b="1" lang="de-DE" sz="1800" spc="-1" strike="noStrike" u="sng">
                <a:solidFill>
                  <a:srgbClr val="000000"/>
                </a:solidFill>
                <a:uFillTx/>
                <a:latin typeface="Courier New"/>
              </a:rPr>
              <a:t>funk()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  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Parameter / Motivation (1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792468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isher sind Prozeduren und Funktionen sehr unflexib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arameter erhöhen die Flexibilitä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ispi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n           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m        m!(n-m)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6           6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3        3!(6-3)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nötigt wi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static int fak6(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static int fak3(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wünsch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static int fak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Courier New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(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obei der Wert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erst zur Laufzeit angegeben werden mu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81080" y="2057400"/>
            <a:ext cx="76320" cy="609480"/>
          </a:xfrm>
          <a:custGeom>
            <a:avLst/>
            <a:gdLst>
              <a:gd name="textAreaLeft" fmla="*/ 0 w 76320"/>
              <a:gd name="textAreaRight" fmla="*/ 53640 w 7632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00200" y="2057400"/>
            <a:ext cx="76320" cy="609480"/>
          </a:xfrm>
          <a:custGeom>
            <a:avLst/>
            <a:gdLst>
              <a:gd name="textAreaLeft" fmla="*/ 22320 w 76320"/>
              <a:gd name="textAreaRight" fmla="*/ 76320 w 7632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378160" y="21337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8120" y="2362320"/>
            <a:ext cx="15238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92760" y="2406600"/>
            <a:ext cx="26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ür  0 &lt;= m &lt;=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81080" y="3048120"/>
            <a:ext cx="76320" cy="609480"/>
          </a:xfrm>
          <a:custGeom>
            <a:avLst/>
            <a:gdLst>
              <a:gd name="textAreaLeft" fmla="*/ 0 w 76320"/>
              <a:gd name="textAreaRight" fmla="*/ 53640 w 7632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00200" y="3048120"/>
            <a:ext cx="76320" cy="609480"/>
          </a:xfrm>
          <a:custGeom>
            <a:avLst/>
            <a:gdLst>
              <a:gd name="textAreaLeft" fmla="*/ 22320 w 76320"/>
              <a:gd name="textAreaRight" fmla="*/ 76320 w 7632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8120" y="3352680"/>
            <a:ext cx="15238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364120" y="321624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Parameter / Motivation (2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990720"/>
            <a:ext cx="8534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class ParameterMotivation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static int fak3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nt zahl = </a:t>
            </a:r>
            <a:r>
              <a:rPr b="1" lang="de-DE" sz="1800" spc="-1" strike="noStrike" u="sng">
                <a:solidFill>
                  <a:srgbClr val="000000"/>
                </a:solidFill>
                <a:uFillTx/>
                <a:latin typeface="Courier New"/>
              </a:rPr>
              <a:t>3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; int erg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for(int zaehler=2; zaehler&lt;=zahl; zaehler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erg = erg * zaehl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return er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static int fak6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nt zahl = </a:t>
            </a:r>
            <a:r>
              <a:rPr b="1" lang="de-DE" sz="1800" spc="-1" strike="noStrike" u="sng">
                <a:solidFill>
                  <a:srgbClr val="000000"/>
                </a:solidFill>
                <a:uFillTx/>
                <a:latin typeface="Courier New"/>
              </a:rPr>
              <a:t>6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; int erg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for(int zaehler=2; zaehler&lt;=zahl; zaehler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erg = erg * zaehl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return er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nt ueber_6_3 = fak6() / (fak3() * fak3(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Parameter / Motivation (3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4920" y="990720"/>
            <a:ext cx="8534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class ParameterMotivation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static int fak(int zahl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nt erg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for(int zaehler=2; zaehler&lt;=zahl; zaehler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erg = erg * zaehl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return er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nt ueber_6_3 = fak(6) / (fak(3) * fak(3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Parameter / Motivation (4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4920" y="1066680"/>
            <a:ext cx="8534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class ParameterMotivation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static int fak(int zahl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nt erg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for(int zaehler=2; zaehler&lt;=zahl; zaehler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erg = erg * zaehl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return er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static int ueber(int n, int m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f ((0 &lt;= m) &amp;&amp; (m &lt;= n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return fak(n) / (fak(m) * fak(n-m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return -1; // Fehlerfall (spaeter Except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nt ueber_6_3 = ueber(6, 3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nt ueber_7_4 = ueber(7, 4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Parameter / Definition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1066680"/>
            <a:ext cx="7543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&lt;Param-Defs&gt; ::= &lt;Typ&gt; &lt;Param-Na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{ "," &lt;Typ&gt; &lt;Param-Name&gt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&lt;Param-Name&gt; ::= &lt;Bezeichne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4920" y="3581280"/>
            <a:ext cx="853416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ispie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static int summe(</a:t>
            </a:r>
            <a:r>
              <a:rPr b="1" lang="de-DE" sz="1800" spc="-1" strike="noStrike" u="sng">
                <a:solidFill>
                  <a:srgbClr val="000000"/>
                </a:solidFill>
                <a:uFillTx/>
                <a:latin typeface="Courier New"/>
              </a:rPr>
              <a:t>int op1, int op2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return op1 + o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static void ausgabe(</a:t>
            </a:r>
            <a:r>
              <a:rPr b="1" lang="de-DE" sz="1800" spc="-1" strike="noStrike" u="sng">
                <a:solidFill>
                  <a:srgbClr val="000000"/>
                </a:solidFill>
                <a:uFillTx/>
                <a:latin typeface="Courier New"/>
              </a:rPr>
              <a:t>char zeichen, int anzahl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for (int i=0; i&lt;anzahl; i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O.println(zeichen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4920" y="2286000"/>
            <a:ext cx="8534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manti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nführung einer lokalen Variable für die Prozedur/Funk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zeichnung: "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ormal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rameter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Parameter / Übergabe (1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371600" y="990720"/>
            <a:ext cx="64771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&lt;Param-List&gt; ::= &lt;Ausdruck&gt; { "," &lt;Ausdruck&gt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4920" y="1523880"/>
            <a:ext cx="8534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manti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Übergabe eines "Initialwertes" für den formalen Parame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zeichnung: "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ktuell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rameter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2514600"/>
            <a:ext cx="8534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dingung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zahl an formalen Parametern = Anzahl an aktuellen Paramete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ür alle Parameter in der entsprechenden Reihenfolge: Typ des aktuellen Parameters typkonform zum Typ des formalen Parame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4920" y="3581280"/>
            <a:ext cx="853416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chem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static int summe(int op1, int op2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// int op1 = "Wert des ersten aktuellen Parameters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// int op2 = "Wert des zweiten aktuellen Parameters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return op1 + o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nt s1 = summe(</a:t>
            </a:r>
            <a:r>
              <a:rPr b="1" lang="de-DE" sz="1800" spc="-1" strike="noStrike" u="sng">
                <a:solidFill>
                  <a:srgbClr val="000000"/>
                </a:solidFill>
                <a:uFillTx/>
                <a:latin typeface="Courier New"/>
              </a:rPr>
              <a:t>2, 3*4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nt s2 = summe(</a:t>
            </a:r>
            <a:r>
              <a:rPr b="1" lang="de-DE" sz="1800" spc="-1" strike="noStrike" u="sng">
                <a:solidFill>
                  <a:srgbClr val="000000"/>
                </a:solidFill>
                <a:uFillTx/>
                <a:latin typeface="Courier New"/>
              </a:rPr>
              <a:t>s1, -5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Parameter / Übergabe (2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04920" y="1143000"/>
            <a:ext cx="8534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class Beispiel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static int fak(int zahl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nt erg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for(int zaehler=2; zaehler&lt;=zahl; zaehler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erg = erg * zaehl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return er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static int ueber(int n, int m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return fak(n) / (fak(m) * fak(n-m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nt zahl = fak(3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zahl = fak(fak(2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zahl = ueber(fak(zahl)+1,zahl-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Parameter / Übergabe (3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4920" y="1523880"/>
            <a:ext cx="853416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class Beispiel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static int funk(int n1, int n2, int n3, int n4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return n1 + n2 + n3 + n4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nt n = 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nt zahl = funk(n++, n = n+2, n--, n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// entspricht hier: funk(2, 5, 5, 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// Grund: Parameterauswertung von links nach rech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63de8"/>
                </a:solidFill>
                <a:latin typeface="Arial"/>
              </a:rPr>
              <a:t>Parameter / varargs / Motivation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static int summe2(int zahl1, int zahl2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return zahl1 + zahl2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static int summe3(int zahl1, int zahl2, int zahl3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return zahl1 + zahl2 + zahl3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static int summe4(int zahl1, int zahl2, int zahl3, int zahl4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return zahl1 + zahl2 + zahl3 + zahl4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s1 = summe2(3, 5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s2 = summe3(66, 5, s1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1     = summe4(67, s1, -3, s2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2     = summe(4, 7, s1, s2 - 2, 88);   // Feh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Gliederung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73200" y="1142640"/>
            <a:ext cx="41148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ozedu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zedur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zeduraufru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unkti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unktions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unktionsaufru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ara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arameter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arameterüberga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arar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usammenfass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1143000"/>
            <a:ext cx="41148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ültigkeitsbereich und Lebensdauer von Variab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e und lokale Variab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ültigkeitsbereich / Überladen von Funktio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ispie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fgab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63de8"/>
                </a:solidFill>
                <a:latin typeface="Arial"/>
              </a:rPr>
              <a:t>Parameter / varargs / Lösung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ic int summe(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int... zahle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ergebnis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nt n=0; n &lt;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zahlen.length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n++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gebnis +=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zahlen[n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ergebni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s1 = summe(3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s2 = summe(66, 5, s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2     = summe(1, 2, s1, 4, 5, 6, s2, 8, 9, 1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5375160"/>
            <a:ext cx="813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18f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it Java 5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18f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e Funktion darf maximal einen varargs-Parameter besitz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18f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ser muss an letzter Stelle der formalen Parameterliste ste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5160" y="981000"/>
            <a:ext cx="272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arargs-Para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5003640" y="1268280"/>
            <a:ext cx="936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081040" y="2349360"/>
            <a:ext cx="385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zahl aktueller Para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4932360" y="2060640"/>
            <a:ext cx="719280" cy="28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141800" y="2924280"/>
            <a:ext cx="443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-ter aktueller Parameter (ab 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4140360" y="2420640"/>
            <a:ext cx="287280" cy="576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Parameter / Zusammenfassung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arameter sind spezielle funktionslokale Variab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ormale Parameter werden zur Laufzeit mit aktuellen Parameter(werten) initialisi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 Jav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ur Werteparameter (call-by-val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Typen der Parameter müssen bei der Funktionsdefinition festgelegt werden (keine flexiblen Parametertyp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ls Parametertypen können (bisher nur) Standarddatentypen verwendet werden (später auch Klassentyp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s ist nicht möglich, Typen von Funktionen zu defini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r Funktionstyp muss bei der Definition angegeben werden (keine flexiblen Funktionstyp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unktionen können nur einen einfachen Wert liefern (insbesondere kein Kreuzprodukt von Wert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ktuelle Funktionsparameter werden von links nach rechts ausgewert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Gültigkeitsbereich / Lebensdauer von Variablen (1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ültigkeitsbereich ("Scope"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r Gültigkeitsbereich einer Variablen ist zur Compilezeit relev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r Gültigkeitsbereich eines Variablennamens ist der Block, in dem die Variable definiert wird, sowie aller inneren Blöcke, und zwa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ac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der Stelle seiner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ariablennamen müssen innerhalb eines Blocks und aller inneren Blöcke eindeutig s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ariablennamen sind nur innerhalb ihres Gültigkeitsbereichs anwend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ebensdau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Lebensdauer einer Variablen ist zur Laufzeit relev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Lebensdauer einer Variablen beginnt bei der Ausführung der Variablendefinition (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Reservierung von Speicherplat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Lebensdauer einer Variablen endet nach der vollständigen Abarbeitung des Blockes, in dem sie definiert wird, bzw. nach dem Verlassen des Blockes mittels einer return-Anweisung (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Freigabe von Speicherplat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beiden Definitionen werden später noch erweit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Gültigkeitsbereich / Lebensdauer von Variablen (2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990720"/>
            <a:ext cx="77724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class GueltigeBeispiel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static void p(int x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nt i = x, y = 2;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static void q(int x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float y = 2, w = 0;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nt i = 3, j = 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nt x = 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p(i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j = 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nt w = 0, x = j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w = 4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 }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Gültigkeitsbereich / Lebensdauer von Variablen (3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04920" y="914400"/>
            <a:ext cx="8534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class UngueltigeBeispiel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static void P(int x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nt i = z; // Fehler: z nicht gült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static void Q(int x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float x = 2.0F; // Fehler: x doppelt defini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nt j = i; // Fehler: i nicht gült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nt i = 3 * i;  // Fehler: i noch nicht defini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nt v = 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 = v;  // Fehler: v nicht mehr gült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Gültigkeitsbereich / Lebensdauer von Variablen (4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04920" y="1066680"/>
            <a:ext cx="8534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class UngueltigeBeispiele2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static int eingabe(int min, int max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nt zahl = IO.readInt ("Zahl eingeben: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while ((zahl &lt; min) || (zahl &gt; max)) {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O.println("Fehler!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de-DE" sz="1800" spc="-1" strike="noStrike" u="sng">
                <a:solidFill>
                  <a:srgbClr val="000000"/>
                </a:solidFill>
                <a:uFillTx/>
                <a:latin typeface="Courier New"/>
              </a:rPr>
              <a:t>zahl = IO.readInt("Zahl eingeben:");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return zah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static int eingabeF(int min, int max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nt zahl = IO.readInt ("Zahl eingeben: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while ((zahl &lt; min) || (zahl &gt; max)) {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O.println("Fehler!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de-DE" sz="1800" spc="-1" strike="noStrike" u="sng">
                <a:solidFill>
                  <a:srgbClr val="000000"/>
                </a:solidFill>
                <a:uFillTx/>
                <a:latin typeface="Courier New"/>
              </a:rPr>
              <a:t>int zahl = IO.readInt("Zahl eingeben:");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// Fehle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return zah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Globale und lokale Variablen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class Variable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600" spc="-1" strike="noStrike" u="sng">
                <a:solidFill>
                  <a:srgbClr val="000000"/>
                </a:solidFill>
                <a:uFillTx/>
                <a:latin typeface="Courier New"/>
              </a:rPr>
              <a:t>static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int 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static void f1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IO.println(i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static void f2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i++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static void f3(int i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int j = 3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IO.println(i+j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i = 471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f1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f2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f3(i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}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486760" y="1219320"/>
            <a:ext cx="212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obale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2437920" y="1447920"/>
            <a:ext cx="30481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486400" y="4327560"/>
            <a:ext cx="196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kale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3886200" y="411444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2514600" y="4266720"/>
            <a:ext cx="2819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Gültigkeitsbereich / Überladen von Funktionen (1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ültigkeitsbereich ("Scope"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r Gültigkeitsbereich eines Funktionsnamens ist die gesamte Klasse, in der die Funktion definiert wi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unktionsnamen müssen innerhalb eines Blocks und aller inneren Blöcke eindeutig sein; Ausnahme: Überladen von Funktione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unktionsnamen sind nur innerhalb ihres Gültigkeitsbereichs anwend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laden von Funktion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wei oder mehrere Funktionen können innerhalb eines Gültigkeitsbereichs denselben Namen besitzen, we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ie eine unterschiedliche Anzahl an Parametern besitzen o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enn sich die Parametertypen an entsprechender Stelle unterschei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Definition wird später noch erweit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Gültigkeitsbereich / Überladen von Funktionen (2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04920" y="1066680"/>
            <a:ext cx="8534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class Beispiel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static float summe(float op1, float op2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return op1 + o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static int summe(int op1, int op2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return op1 + o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static float summe(int op1, int op2) // Fehle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nt s1    = summe(2, 3);        // int-sum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float s2  = summe(2.0F, 3.0F);  // float-sum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float s3  = summe(2, 3);        // int-sum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float s4  = summe(2.0F, 3);     // float-sum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Beispiel 1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" y="990720"/>
            <a:ext cx="77724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class Dual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static int dual(int dezZahl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f (dezZahl &lt; 0) return -1; // Fehlerf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nt dualZahl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nt faktor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while (dezZahl &gt; 0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dualZahl += dezZahl % 2 * fakto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dezZahl /= 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faktor *= 1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return dualZah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nt zahl = IO.readInt ("Dezimalzahl: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O.println(dual(zahl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Prozeduren / Motivation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finitio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eil eines Programmes, das eine in sich abgeschlossene Aufgabe lö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rteil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ssere Übersichtlichkeit von Program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parate Lösung von Teilproble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latzeinspar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fachere Fehlerbeseitig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il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ederverwendbark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Java-spezifisch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zeduren sind eigentlich so genannte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Metho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wei Aspekt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zedur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zeduraufru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Beispiel 2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33520" y="1143000"/>
            <a:ext cx="81532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class Umrechnu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static int umrechnung(int dezZahl, int nach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f ((dezZahl &lt; 0) || (nach &lt; 2) || (nach &gt; 10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return -1; // Fehlerf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nt zahl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nt faktor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while (dezZahl &gt; 0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zahl += dezZahl % nach * fakto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dezZahl /= na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faktor *= 1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return zah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nt zahl = IO.readInt ("Dezimalzahl: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nt system = IO.readInt ("System:"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O.println(umrechnung(zahl, system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Beispiel 3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33520" y="990720"/>
            <a:ext cx="81532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class Revers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static int abs(int zahl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return (zahl &lt; 0) ? -zahl : zah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static int reverse(int zahl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zahl = abs(zahl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nt ergebnis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while (zahl &gt; 0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ergebnis = ergebnis * 10 + zahl % 1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zahl /= 1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return ergebni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nt zahl = IO.readInt ("Zahl eingeben: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O.println(reverse(zahl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Beispiel 4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3520" y="1066680"/>
            <a:ext cx="81532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class Check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static boolean isDigit(char zeichen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return (zeichen &gt;= '0') &amp;&amp; (zeichen &lt;= '9'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static int getValue(char zeichen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f (isDigit(zeichen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return zeichen - '0'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return -1; // Fehlerf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char zeichen = IO.readChar ("Zeichen eingeben: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O.println(getValue(zeichen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Beispiel 5 (1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reiben Sie ein Programm "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Rechtec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", das zunächst eine Zahl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hoeh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einliest, die größer als 1 ist, dann eine Zahl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breit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einliest,  die größer als 1 und kleiner als 10 ist, und anschließend ein "Rechteck" mit der Höhe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hoeh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und der Breite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breit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in folgender Gestalt auf den Bildschirm ausgib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ispi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$ java Recht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Hoehe eingeb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4&lt;C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Breite eingeb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5&lt;C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+---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|   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|   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+---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Beispielprogramm 5 (2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62120" y="923760"/>
            <a:ext cx="7162560" cy="527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class Rechteck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public static void main(String[] a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nt hoehe = eingabe(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nt breite = eingabe(2, 9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zeilenausgabe('+', '-', breit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for (int j=2; j&lt;hoehe; j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zeilenausgabe('|', ' ', breit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zeilenausgabe('+', '-', breit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static int eingabe(int min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nt zahl = IO.readInt ("Zahl eingeben: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while (zahl &lt; min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O.println("Fehlerhafte Eingabe!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zahl = IO.readInt("Zahl eingeben: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return zah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Beispielprogramm 5 (3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" y="936720"/>
            <a:ext cx="8534520" cy="55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static int eingabe(int min, int max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nt zahl = IO.readInt ("Zahl eingeben: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while ((zahl &lt; min) || (zahl &gt; max)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O.println("Fehlerhafte Eingabe!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zahl = IO.readInt("Zahl eingeben: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return zah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static void ausgabe(char zeichen, int anzahl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for (int i=0; i&lt;anzahl; i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O.print(zeichen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static void zeilenausgabe(char start, char mitt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                   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nt anzahl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ausgabe(start, 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ausgabe(mitt, anzahl-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ausgabe(start, 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O.println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Beispiel 6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15840" y="905040"/>
            <a:ext cx="71758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class Mathematik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static int min(int x, int y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return (x &lt;= y) ? x :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static int max(int x, int y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return (x &gt;= y) ? x :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static int abs(int x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return (x &lt; 0) ? -x : 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static float pow(float zahl, int pot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float ergebnis = 1.0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for (int i=0; i&lt;abs(pot); i++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ergebnis = ergebnis * zah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return (pot &gt;= 0) ? ergebnis : 1.0F/ergebni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static int round(float x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return (x &lt; 0) 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-((int)(-x + 0.5F)) : (int)(x + 0.5F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Aufgabe 1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Ulam-Zahlenfolge beginnt mit einer beliebigen natürlichen Zahl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 Ist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gerade, so erhält man die nächste Zahl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urch Halbierung. Ist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ungerade, so erhält man die nächste Zahl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urch eine Verdreifachung vo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und dem Addieren von 1. Die Folge endet, wenn ein Glied der Folge den Wert 1 erreich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reiben Sie ein Java-Programm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UlamFolg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das zunächst die Eingabe eines positiven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Wertes erwartet. Anschließend soll die Ulam-Folge zu dieser Zahl auf den Bildschirm ausgegeben werden. Definieren und nutzen Sie dabei eine Funktion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ulamWer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die zu einem als Parameter übergebenen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Wert den nächsten Wert der Ulam-Folge liefe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ispi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$ java UlamFol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Eingabe: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Ausgabe: 3 10 5 16 8 4 2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Aufgabe 2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hreiben Sie ein Programm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Sortiere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 das die Ziffern einer eingelesenen positiven Zahl sortiert nach deren Größe auf den Bildschirm ausgibt. Es dürfen keine Arrays verwendet werde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ispie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30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$ java Sorti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30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Eingabe: 377342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30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Ausgabe: 023347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30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nweise: Definieren und nutzen Sie folgende Funktion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 Liefert Anzahl an Ziffern einer Za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length(12345) </a:t>
            </a: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kleinsteZiffer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 Liefert die kleinste Ziffer einer Za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kleinsteZiffer(342667) </a:t>
            </a: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liefereZiffer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 Liefert Ziffer einer Zahl an einer bestimmten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liefereZiffer(147335, 2) </a:t>
            </a: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loescheZiffer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 Liefert Zahl, bei der eine Ziffer einer Zahl an einer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stimmten Position gelöscht 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loescheZiffer(147335, 2) </a:t>
            </a: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147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3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Prozeduren / Definition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472608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t im Program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nerhalb einer Kla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r/nach main-Prozed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ine Schachtelung von Prozedurdefinitionen mögl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914400"/>
            <a:ext cx="81309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&lt;Proc-Def&gt;   ::= &lt;Proc-Kopf&gt; &lt;Proc-Rumpf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&lt;Proc-Kopf&gt;  ::= ["public"] "static" "void" &lt;Proc-Na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"(" [ &lt;Param-Defs&gt; ] ")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&lt;Proc-Name&gt;  ::= &lt;Bezeichne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&lt;Proc-Rumpf&gt; ::= &lt;Block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&lt;Param-Defs&gt;  spä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350028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manti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ine Auswirkungen auf den Programmablau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ührt neue Prozedur mit dem angegebenen Namen 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Prozeduren / Aufruf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14300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&lt;Proc-Aufruf&gt; ::= &lt;Proc-Name&gt; "(" [ &lt;Param-List&gt; ] ")" ";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&lt;Param-List&gt;   spä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1981080"/>
            <a:ext cx="853416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manti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zeduraufruf ist ein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weis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im Aufruf einer Prozedur werden die Anweisungen im Prozedurrumpf ausgefüh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s der Prozedurrumpf vollständig abgearbeitet ist o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s eine return-Anweisung ausgeführt wi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11360" y="4530600"/>
            <a:ext cx="14000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main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62360" y="4516560"/>
            <a:ext cx="15523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1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913360" y="4502160"/>
            <a:ext cx="15523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2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25760" y="48769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78040" y="50292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778040" y="51814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78040" y="53341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778040" y="5791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78040" y="59436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78040" y="60958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01000" y="534816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1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06800" y="50292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006800" y="51814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06800" y="53341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006800" y="5791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06800" y="59436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006800" y="60958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929760" y="534816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2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21440" y="50292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121440" y="51814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121440" y="53341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121440" y="5791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121440" y="59436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121440" y="60958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21440" y="55627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2997360" y="5027760"/>
            <a:ext cx="68724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759120" y="49528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5207040" y="5029200"/>
            <a:ext cx="60948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969160" y="502920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5207040" y="5791320"/>
            <a:ext cx="53352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759120" y="57913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2997000" y="5791320"/>
            <a:ext cx="53316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25760" y="57150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27240" y="495288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979720" y="495288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665520" y="495288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189400" y="495288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564160" y="527220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3280" y="588168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65520" y="571500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79720" y="588168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20760" y="571500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Funktionen / Motivation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i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il eines Programmes, das durch die Ausführung von Anweisungen einen Wert berech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grenzu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Prozeduren tun etwas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Funktionen berechnen und liefern einen Wert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themati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: Definitionsbereich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ertebere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ktionsname      Parameter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Funktionsty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ei Aspek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rtberechnung und -rückga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ktionsde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ktionsaufru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114800" y="38098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6248520" y="38098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2743200" y="380988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Funktionen / Definition (1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5181120"/>
            <a:ext cx="853416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t im Program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nerhalb einer Kla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r/nach main-Prozed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ine Schachtelung von Funktionsdefinitionen mögl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838080"/>
            <a:ext cx="79135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&lt;Funk-Def&gt;   ::= &lt;Funk-Kopf&gt; &lt;Funk-Rumpf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&lt;Funk-Kopf&gt;  ::= ["public"] "static" </a:t>
            </a:r>
            <a:r>
              <a:rPr b="1" lang="de-DE" sz="1800" spc="-1" strike="noStrike" u="sng">
                <a:solidFill>
                  <a:srgbClr val="000000"/>
                </a:solidFill>
                <a:uFillTx/>
                <a:latin typeface="Courier New"/>
              </a:rPr>
              <a:t>&lt;Typ&gt;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&lt;Funk-Na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"(" [ &lt;Param-Defs&gt; ] ")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&lt;Funk-Name&gt;  ::= &lt;Bezeichne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&lt;Funk-Rumpf&gt; ::= &lt;Block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4038480"/>
            <a:ext cx="8534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manti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ine Auswirkungen auf den Programmablau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ührt neue Funktion mit dem angegebenen Namen und Funktionstyp 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2743200"/>
            <a:ext cx="8534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benbedingu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 Rumpf muss 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jedem möglich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unktionsdurchlauf eine return-Anweisung geben, wobei der Typ des return-Ausdrucks konform zum Funktionstyp 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676200" y="182880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ktionsty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6476760" y="1523520"/>
            <a:ext cx="6094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Funktionen / Definition (2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1066680"/>
            <a:ext cx="8534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ispiel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class FunkProb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static int funkEins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O.println("in funkEins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static char funkZwei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f ( IO.readInt() == 0 ) return 'a'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O.println("in funkZwei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return 'b'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90720" y="22096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90720" y="487692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Funktionen / Definition (3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990720"/>
            <a:ext cx="8534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ehlerhafte Beispiele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class FunkProbe2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static int liefereWert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f ( IO.readInt() == 0 ) return -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// Fehler: im else-Fall wird kein return ausgeführt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static double funkDrei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f (IO.readInt() == 0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return 'a';       // ok: impliziter Typcast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O.println("in funkDrei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return 'a' == 'b';   // Fehler: ungültiger Typ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static boolean test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return 2 =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nt wert = 2; // Fehler: Anweisung wird nicht erreicht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0-18T10:43:32Z</dcterms:created>
  <dc:creator>SWL</dc:creator>
  <dc:description/>
  <cp:keywords/>
  <dc:language>en-US</dc:language>
  <cp:lastModifiedBy>Dietrich Boles</cp:lastModifiedBy>
  <cp:lastPrinted>2000-09-04T14:51:16Z</cp:lastPrinted>
  <dcterms:modified xsi:type="dcterms:W3CDTF">2005-11-21T15:06:30Z</dcterms:modified>
  <cp:revision>100</cp:revision>
  <dc:subject/>
  <dc:title>gmds ‘96, Bonn, 18.9.96</dc:title>
</cp:coreProperties>
</file>