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3480" y="225360"/>
            <a:ext cx="7761240" cy="34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0440" y="800280"/>
            <a:ext cx="764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21840" y="6611760"/>
            <a:ext cx="63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10680" y="6611760"/>
            <a:ext cx="73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5240" y="6553080"/>
            <a:ext cx="880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68360" y="6537240"/>
            <a:ext cx="849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grammierung I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weisunge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trich Bol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E65315D0-EE9E-460D-A73E-95E8040332B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921800" y="304920"/>
          <a:ext cx="993600" cy="59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1800" y="304920"/>
                    <a:ext cx="99360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grammierung I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2401920" cy="4157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20960" y="1341360"/>
            <a:ext cx="482148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rlesung an 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richtseinheit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weis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82440" y="5502240"/>
            <a:ext cx="31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18ffd"/>
                </a:solidFill>
                <a:latin typeface="Arial"/>
              </a:rPr>
              <a:t>Dr. Dietrich B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63de8"/>
                </a:solidFill>
                <a:latin typeface="Arial"/>
              </a:rPr>
              <a:t>for-Anweisung (4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914400"/>
            <a:ext cx="86104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or (int schritte = 1; schritte &lt; 5; schritte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O.println(schritt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=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schritte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while (schritte &lt; 5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O.println(schritt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chritte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63de8"/>
                </a:solidFill>
                <a:latin typeface="Arial"/>
              </a:rPr>
              <a:t>for-Anweisung (5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2895480"/>
            <a:ext cx="86104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or (int zahl=0; zahl&lt;3; zahl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O.println(zah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O.println(zahl); // Fehler: zahl ungült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990720"/>
            <a:ext cx="8686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gänzu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eine Variable in der Initialisierungsanweisung definiert, so erstreckt sich ihr Gültigkeitsbereich über die gesamte for-Anweisung (aber nicht weiter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Label-Anweisung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Label-Anweisung&gt; ::= &lt;Label&gt; ":" &lt;Anweisun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Label&gt;           ::= &lt;Bezeichn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97180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eklariere: int anzahl =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berechneWiederho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while (anzahl &lt;= 3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berechne: anzahl +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gibA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O.println(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hello world!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205740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nt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ne Auswirkungen auf den Programmabla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63de8"/>
                </a:solidFill>
                <a:latin typeface="Arial"/>
              </a:rPr>
              <a:t>break-Anweisung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break-Anweisung&gt; ::= "break" [ &lt;Label&gt; ] ";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259092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mantik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hlt das Label, so wird das innerste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erla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istiert ein umgebendes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it einem angegebenen Label, so wird dieses verla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447920"/>
            <a:ext cx="86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inn und Zweck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zeitiges Verlassen eines Block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ot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4495680"/>
            <a:ext cx="85341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erg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or (int zahl=0; zahl&lt;5; zahl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f (erg &gt; 10) 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63de8"/>
                </a:solidFill>
                <a:latin typeface="Arial"/>
              </a:rPr>
              <a:t>break-Anweisung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1480" y="9079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 (ohne break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22040" y="1484280"/>
            <a:ext cx="627696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class ZiffernOhneBreak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nt zahl1 = IO.readInt("erste Zahl (&gt;0):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nt zahl2 = IO. readInt("zweite Zahl (&gt;0):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1" lang="de-DE" sz="1600" spc="-1" strike="noStrike" u="sng">
                <a:solidFill>
                  <a:srgbClr val="000000"/>
                </a:solidFill>
                <a:uFillTx/>
                <a:latin typeface="Courier New"/>
              </a:rPr>
              <a:t>gefunden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while (zahl1 &gt; 0 &amp;&amp; </a:t>
            </a:r>
            <a:r>
              <a:rPr b="1" lang="de-DE" sz="1600" spc="-1" strike="noStrike" u="sng">
                <a:solidFill>
                  <a:srgbClr val="000000"/>
                </a:solidFill>
                <a:uFillTx/>
                <a:latin typeface="Courier New"/>
              </a:rPr>
              <a:t>!gefunden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nt hilfsZahl = zahl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while (hilfsZahl &gt; 0 &amp;&amp; </a:t>
            </a:r>
            <a:r>
              <a:rPr b="1" lang="de-DE" sz="1600" spc="-1" strike="noStrike" u="sng">
                <a:solidFill>
                  <a:srgbClr val="000000"/>
                </a:solidFill>
                <a:uFillTx/>
                <a:latin typeface="Courier New"/>
              </a:rPr>
              <a:t>!gefunden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f (zahl1 % 10 == hilfsZahl % 1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O.println("Enthalten gleiche Ziffe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1600" spc="-1" strike="noStrike" u="sng">
                <a:solidFill>
                  <a:srgbClr val="000000"/>
                </a:solidFill>
                <a:uFillTx/>
                <a:latin typeface="Courier New"/>
              </a:rPr>
              <a:t>gefunden = tru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hilfsZahl = hilfsZahl /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de-DE" sz="1600" spc="-1" strike="noStrike" u="sng">
                <a:solidFill>
                  <a:srgbClr val="000000"/>
                </a:solidFill>
                <a:uFillTx/>
                <a:latin typeface="Courier New"/>
              </a:rPr>
              <a:t>(!gefunden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zahl1 = zahl1 /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 } }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63de8"/>
                </a:solidFill>
                <a:latin typeface="Arial"/>
              </a:rPr>
              <a:t>break-Anweisung (3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760" y="90792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 (mit break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22040" y="1501920"/>
            <a:ext cx="62769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class ZiffernMitBreak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public static void main(String[] args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nt zahl1 = IO.readInt("erste Zahl (&gt;0):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nt zahl2 = IO. readInt("zweite Zahl (&gt;0):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 u="sng">
                <a:solidFill>
                  <a:srgbClr val="000000"/>
                </a:solidFill>
                <a:uFillTx/>
                <a:latin typeface="Courier New"/>
              </a:rPr>
              <a:t>hauptprogramm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while (zahl1 &g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nt hilfsZahl = zahl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while (hilfsZahl &g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f (zahl1 % 10 == hilfsZahl % 1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O.println("Enthalten gleiche Ziffe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1600" spc="-1" strike="noStrike" u="sng">
                <a:solidFill>
                  <a:srgbClr val="000000"/>
                </a:solidFill>
                <a:uFillTx/>
                <a:latin typeface="Courier New"/>
              </a:rPr>
              <a:t>break hauptprogram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hilfsZahl = hilfsZahl /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zahl1 = zahl1 /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63de8"/>
                </a:solidFill>
                <a:latin typeface="Arial"/>
              </a:rPr>
              <a:t>switch-Anweisung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switch-Anweisung&gt; ::= "switch" "(" &lt;Ausdruck&gt; ")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"{" { &lt;Fallunterscheid&gt; } "}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Fallunterscheid&gt;  ::=   &lt;Anweisun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| "case" &lt;const-Ausdruck&gt; ":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| "default" ":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5181480"/>
            <a:ext cx="86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inn und Zweck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ößere Fallunterschei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ffizienter als geschachtelte if-Anweis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289548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7000"/>
          </a:bodyPr>
          <a:p>
            <a:pPr marL="195480" indent="-19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dingung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-16272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const-Ausdrück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m Typ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by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Lite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-16272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const-Ausdrück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m selben Ty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-16272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doppelt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const-Ausdrück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-16272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yp vo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usdruc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onform zum Typ 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const-Ausdrüc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-16272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öchstens ein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63de8"/>
                </a:solidFill>
                <a:latin typeface="Arial"/>
              </a:rPr>
              <a:t>switch-Anweisung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76212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6000"/>
          </a:bodyPr>
          <a:p>
            <a:pPr marL="191880" indent="-191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mantik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 indent="-1598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rt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usdruc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 indent="-1598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lls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const-Ausdruc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it dem berechneten Wert existier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40080" indent="-12780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ringe an die entsprechende Stelle und fahre dort mit der Programmausführung f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 indent="-1598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lls kein entsprechen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const-Ausdruc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xisti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40080" indent="-12780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lls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defaul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xistiert: fahre beim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defaul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 der Ausführung f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40080" indent="-12780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sonsten: beende switch-Anweis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429000"/>
            <a:ext cx="85341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2000"/>
          </a:bodyPr>
          <a:p>
            <a:pPr marL="178200" indent="-178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-178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i = IO.read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-178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witch (i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-178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ase 1:  IO.println(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 == 1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-178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FAHRE 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-178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ase 2:  IO.println(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 == (1 oder 2)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-178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-178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ase 3:  IO.println(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 == 3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-178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-178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efault: IO.println(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 != (1/2/3)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-178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-178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63de8"/>
                </a:solidFill>
                <a:latin typeface="Arial"/>
              </a:rPr>
              <a:t>switch-Anweisung (3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914400"/>
            <a:ext cx="8534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har ch = IO.readChar("char: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hexWert =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witch (ch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ase '0': case '1': case '2': case '3'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ase '4': case '5': case '6': case '7'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ase '8': case '9'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hexWert = ch - '0'; 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ase 'a': case 'b': case 'c': case 'd'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ase 'e': case 'f'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hexWert = (ch - 'a') + 10; 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ase 'A': case 'B': case 'C': case 'D'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ase 'E': case 'F'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hexWert = (ch - 'A') + 10; 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f (hexWert != -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O.println(hexWer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O.println("ungueltiges Zeichen");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63de8"/>
                </a:solidFill>
                <a:latin typeface="Arial"/>
              </a:rPr>
              <a:t>continue-Anweisung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continue-Anweisung&gt; ::= "continue" [ &lt;Label&gt; ] ";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20968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mantik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hlt das Label, so wird an das Ende der Schleifenanweisung des innersten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espr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istiert eine umgebende Schleife mit einem angegebenen Label, so wird an das Ende der Schleifenanweisung dieser Schleife gespr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447920"/>
            <a:ext cx="86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n und Zw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 Ende eines Schleifenrumpfes spri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343400"/>
            <a:ext cx="85341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while (x &lt; 10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x = x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f (x &lt; 10) contin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O.println(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x == 10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Gliederung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47527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reits bekannte Anweis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-Anwei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-Anwei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bel-Anwei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eak-Anwei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witch-Anwei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tinue-Anwei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turn-Anwei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1052640"/>
            <a:ext cx="302436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ispi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63de8"/>
                </a:solidFill>
                <a:latin typeface="Arial"/>
              </a:rPr>
              <a:t>continue-Anweisung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914400"/>
            <a:ext cx="8534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or (int schritte=1; schritte&lt;5; schritte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f (schritte &lt; 3) contin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O.println(schritt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!&lt;=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schritte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while (schritte &lt; 5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f (schritte &lt; 3) continue; // Endlosschle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O.println(schritt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chritte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 für Nicht-Äquivalenz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 der for-Schleife wird noch der Inkr-Ausdruck ausgewertet!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63de8"/>
                </a:solidFill>
                <a:latin typeface="Arial"/>
              </a:rPr>
              <a:t>return-Anweisung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return-Anweisung&gt; ::= "return" [ &lt;Ausdruck&gt; ] ";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274320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nt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Prozedur/Funktion/Methode wird unmittelbar verla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ls ein Ausdruck existiert, wird sein Wert berechnet und dieser als Funktionswert zurückgelief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447920"/>
            <a:ext cx="86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n und Zw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lassen einer Prozedur/Funktion/Meth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eferung eines Wer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4495680"/>
            <a:ext cx="85341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 static int abs(int wert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f (wert &gt;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return wer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return -wer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ispiel 1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1700280"/>
            <a:ext cx="828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lass ZinsesZin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ystem.out.println("Berechnung des ZinsesZins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double kapital = IO.readDouble("Kapital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double zinssatz = IO.readDouble("Zinssatz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jahre = IO.readInt("Anzahl Jahre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or (int j=0; j&lt;jahre; j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kapital = kapital * (1.0 + zinssatz / 10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"Kapital in " + jahre + " Jahren = " + kapit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3000" y="981000"/>
            <a:ext cx="659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eiben Sie ein Programm zur Zinseszins-Berech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ispiel 2 / Aufgab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reiben Sie ein Programm "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echn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", das zunächst zwei Zahlen und dann einen Buchstaben (Operatorzeichen) einliest,  das Ergebnis berechnet und dieses ausgibt. Dieses soll sich wiederholen, bis der Nutzer als Operator ein ‘q‘ (für "quit") eingib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$ java Rech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Zahl 1 eingeb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-23&lt;C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Zahl 2 eingeb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2&lt;C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Operator eingeb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*&lt;C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-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Zahl 1 eingeb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0&lt;C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Zahl 2 eingeb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0&lt;C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Operator eingeb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q&lt;C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ispiel 2 / Lösung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5040" y="1101600"/>
            <a:ext cx="7861680" cy="52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lass Rechne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(String[] 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hauptprogram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zahl1 = IO.readInt("Zahl 1 eingeben: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zahl2 = IO.readInt("Zahl 2 eingeben: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har operator = IO.readChar("Operator eingeben: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witch (operator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ase '+': IO.println(zahl1+zahl2); 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ase '-': IO.println(zahl1-zahl2); 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ase '*': IO.println(zahl1*zahl2); 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ase '/': IO.println(zahl1/zahl2); 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ase '%': IO.println(zahl1%zahl2); 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ase 'q': break hauptprogram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default:  IO.println("ungueltiger Op"); 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ispiel 3 / Aufgab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reiben Sie ein Programm "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echtec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", das zunächst eine Zahl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oeh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liest, die größer als 1 ist, dann eine Zahl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rei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liest,  die größer als 1 und kleiner als 10 ist, und anschließend ein "Rechteck" mit der Höh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oeh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der Breit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rei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n folgender Gestalt auf den Bildschirm ausgib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$ java Recht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Hoehe eingeben (&gt;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4&lt;C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Breite eingeben (1 &lt; b &lt; 10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5&lt;C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+---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|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|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+---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ispiel 3 / Lösung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9120" y="1533600"/>
            <a:ext cx="8547480" cy="42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lass Rechteck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(String[] 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richtige Hoehe einle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hoehe = IO.readInt("Hoehe eingeben (&gt;1):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hile (hoehe &lt; 2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ln("Eingabefehler: Hoehe &lt;= 1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hoehe = IO.readInt("Nochmal Hoehe eingeben (&gt;1):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richtige Breite einle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breite = IO.readInt("Breite eingeben (1 &lt; b &lt; 10):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hile (breite &lt; 2 || breite &gt; 9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ln("Eingabefehler: Breite nicht zw. 2 und 9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breite = IO.readInt("Breite eingeben (1 &lt; b &lt; 10):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ispiel 3 / Lösung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86280" y="936720"/>
            <a:ext cx="484416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Rechteck ausge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erste Zeile ausge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('+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or (int i=2; i&lt;breite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('-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ln('+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mittlere Zeilen ausge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or (int j=2; j&lt;hoehe; j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('|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or (int i=2; i&lt;breite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(' 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ln('|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letzte Zeile ausge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('+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or (int i=2; i&lt;breite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('-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ln('+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fgabe 1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reiben Sie ein Java-Programm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tern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das zunächst die Eingabe eines positiven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Wertes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anzah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rwartet. Anschließend soll das Programm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anzah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mal ein Sternchen auf den Bildschirm ausgeben. Realisieren Sie das Programm viermal, und zwar einmal mit einer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while-Anweis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einmal mit einer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o-Anweis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einmal mit einer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or-Anweis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einmal mit dem Konstrukt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Courier New"/>
              </a:rPr>
              <a:t>while (true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einer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reak-Anweis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$ java Ste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ingabe: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Ausgabe: 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$ java Ste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ingabe: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Ausgabe: 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fgabe 2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reiben Sie ein Java-Programm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Rau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das zunächst die Eingabe eines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Wertes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durchmess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rwartet. Überprüfen Sie die Eingabe. Es soll ein ungerader Wert zwischen 5 und 50 sein. Anschließend soll das Programm eine Raute mit dem entsprechenden Durchmesser auf den Bildschirm ausge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$ java Ra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ingabe: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  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.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\  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\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Grundlage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72392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weisung = Vorschrift zur Verarbeitung von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lassifik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are Anweis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sammengesetzte Anweis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weisungen zur Ablaufsteu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erative Programm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quentielles Abarbeiten von Anweis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reits bekannte Anweisunge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klarationsanwei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weisungsanwei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gabe-Anweis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abe-Anweis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eranwei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lockanwei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f-Anwei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hile-Anwei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63de8"/>
                </a:solidFill>
                <a:latin typeface="Arial"/>
              </a:rPr>
              <a:t>do-Anweisung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do-Anweisung&gt; ::= "do" &lt;Anweisun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"while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"(" &lt;boolescher Ausdruck&gt; ")" ";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267080"/>
            <a:ext cx="86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mantik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hr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nweis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rechne den Ausdr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lls Ausdruck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liefert, führ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nweis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rneut aus;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lls Ausdruck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liefert, beende die do-Anweis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2743200"/>
            <a:ext cx="86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n und Zw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leife mit mindestens einmaliger Ausführung einer Anweis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63de8"/>
                </a:solidFill>
                <a:latin typeface="Arial"/>
              </a:rPr>
              <a:t>do-Anweisung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066680"/>
            <a:ext cx="853416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mantische Äquivalenz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anweisung1&gt; while (&lt;bedingung&gt;) &lt;anweisung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=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 &lt;anweisung1&gt; while (&lt;bedingung&gt;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3581280"/>
            <a:ext cx="44197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anzahl = IO.read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ln(anzah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anzahl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 while (anzahl &lt;= 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3505320"/>
            <a:ext cx="39625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anzahl = IO.read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ln(anzah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anzahl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hile (anzahl &lt;= 3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ln(anzah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anzahl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8880" y="46832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=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63de8"/>
                </a:solidFill>
                <a:latin typeface="Arial"/>
              </a:rPr>
              <a:t>for-Anweisung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0000"/>
          </a:bodyPr>
          <a:p>
            <a:pPr marL="137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for-Anweisung&gt; ::= "for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"(" [ &lt;Init-Anweisung&gt;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[ &lt;boolescher Ausdruck&gt; ] ";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[ &lt;Inkrement-Ausdruck&gt;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")" &lt;Anweisun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2590920"/>
            <a:ext cx="86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n und Zw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chlaufen eines Werteberei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3429000"/>
            <a:ext cx="86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5000"/>
          </a:bodyPr>
          <a:p>
            <a:pPr marL="154080" indent="-154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mantik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4080" indent="-12852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hr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it-Anweisung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4080" indent="-12852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rechne den booleschen Ausdr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4080" indent="-12852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lls Ausdruck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liefer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14080" indent="-102600">
              <a:lnSpc>
                <a:spcPct val="10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ühre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nweis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u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14080" indent="-102600">
              <a:lnSpc>
                <a:spcPct val="10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rechne de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Inkrement-Ausdruck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14080" indent="-102600">
              <a:lnSpc>
                <a:spcPct val="10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rechne erneut den booleschen Ausdruck;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4080" indent="-12852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lls Ausdruck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liefert, beende die for-Anweis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42120" y="228600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leifen-Bedin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51120" y="2727360"/>
            <a:ext cx="148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krement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dr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9800" y="1447920"/>
            <a:ext cx="205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itialisierung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is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514600" y="144756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6858000" y="18288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5638320" y="2209680"/>
            <a:ext cx="68580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39400" y="3505320"/>
            <a:ext cx="15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leifen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weis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4952520" y="2514600"/>
            <a:ext cx="83844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63de8"/>
                </a:solidFill>
                <a:latin typeface="Arial"/>
              </a:rPr>
              <a:t>for-Anweisung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99072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or (int i=0; i &lt; 10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O.println(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summe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bis = IO.read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or (int i=1; i &lt;= bis; 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umme +=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O.println(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um(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+ bis +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)=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+ sum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63de8"/>
                </a:solidFill>
                <a:latin typeface="Arial"/>
              </a:rPr>
              <a:t>for-Anweisung (3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99072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mantische Äquivalenz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or (&lt;</a:t>
            </a:r>
            <a:r>
              <a:rPr b="1" i="1" lang="de-DE" sz="2000" spc="-1" strike="noStrike">
                <a:solidFill>
                  <a:srgbClr val="000000"/>
                </a:solidFill>
                <a:latin typeface="Courier New"/>
              </a:rPr>
              <a:t>Init-Anweis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 &lt;</a:t>
            </a:r>
            <a:r>
              <a:rPr b="1" i="1" lang="de-DE" sz="2000" spc="-1" strike="noStrike">
                <a:solidFill>
                  <a:srgbClr val="000000"/>
                </a:solidFill>
                <a:latin typeface="Courier New"/>
              </a:rPr>
              <a:t>bool-Ausdr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; &lt;</a:t>
            </a:r>
            <a:r>
              <a:rPr b="1" i="1" lang="de-DE" sz="2000" spc="-1" strike="noStrike">
                <a:solidFill>
                  <a:srgbClr val="000000"/>
                </a:solidFill>
                <a:latin typeface="Courier New"/>
              </a:rPr>
              <a:t>Inkr-Ausdr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i="1" lang="de-DE" sz="2000" spc="-1" strike="noStrike">
                <a:solidFill>
                  <a:srgbClr val="000000"/>
                </a:solidFill>
                <a:latin typeface="Courier New"/>
              </a:rPr>
              <a:t>Anweisung1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=&gt; (i.a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// wegen Gültigkeitsbereich der Init-Anweis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i="1" lang="de-DE" sz="2000" spc="-1" strike="noStrike">
                <a:solidFill>
                  <a:srgbClr val="000000"/>
                </a:solidFill>
                <a:latin typeface="Courier New"/>
              </a:rPr>
              <a:t>Init-Anweis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while (&lt;</a:t>
            </a:r>
            <a:r>
              <a:rPr b="1" i="1" lang="de-DE" sz="2000" spc="-1" strike="noStrike">
                <a:solidFill>
                  <a:srgbClr val="000000"/>
                </a:solidFill>
                <a:latin typeface="Courier New"/>
              </a:rPr>
              <a:t>bool-Ausdr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i="1" lang="de-DE" sz="2000" spc="-1" strike="noStrike">
                <a:solidFill>
                  <a:srgbClr val="000000"/>
                </a:solidFill>
                <a:latin typeface="Courier New"/>
              </a:rPr>
              <a:t>Anweisung1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i="1" lang="de-DE" sz="2000" spc="-1" strike="noStrike">
                <a:solidFill>
                  <a:srgbClr val="000000"/>
                </a:solidFill>
                <a:latin typeface="Courier New"/>
              </a:rPr>
              <a:t>Inkr-Ausdr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Äquivalenz gilt u.U. nicht bei Verwendung der continue-Anweis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18T10:43:32Z</dcterms:created>
  <dc:creator>SWL</dc:creator>
  <dc:description/>
  <cp:keywords/>
  <dc:language>en-US</dc:language>
  <cp:lastModifiedBy>Dietrich Boles</cp:lastModifiedBy>
  <cp:lastPrinted>2000-09-04T14:51:16Z</cp:lastPrinted>
  <dcterms:modified xsi:type="dcterms:W3CDTF">2005-11-21T07:43:33Z</dcterms:modified>
  <cp:revision>104</cp:revision>
  <dc:subject/>
  <dc:title>gmds ‘96, Bonn, 18.9.96</dc:title>
</cp:coreProperties>
</file>