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5236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523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523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0663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0663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523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523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523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3480" y="225360"/>
            <a:ext cx="7761240" cy="34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523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523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5236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90440" y="800280"/>
            <a:ext cx="764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421840" y="6611760"/>
            <a:ext cx="636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10680" y="6611760"/>
            <a:ext cx="73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65240" y="6553080"/>
            <a:ext cx="880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468360" y="6537240"/>
            <a:ext cx="8496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erufsakademie Oldenburg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rogrammierung I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Typen, Operatoren, Ausdrücke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ietrich Boles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eite </a:t>
            </a:r>
            <a:fld id="{F19983FC-DDD7-4130-863D-DCC4D830A7B8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" name=""/>
          <p:cNvGraphicFramePr/>
          <p:nvPr/>
        </p:nvGraphicFramePr>
        <p:xfrm>
          <a:off x="7921800" y="304920"/>
          <a:ext cx="993600" cy="59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921800" y="304920"/>
                    <a:ext cx="993600" cy="59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Programmierung I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2401920" cy="4157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536640" y="1341360"/>
            <a:ext cx="51915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rlesung an 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rufsakademie Oldenbu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terrichtseinheit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n, Operatoren und Ausd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82440" y="5502240"/>
            <a:ext cx="316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618ffd"/>
                </a:solidFill>
                <a:latin typeface="Arial"/>
              </a:rPr>
              <a:t>Dr. Dietrich Bo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Operatoren / Übersicht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4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teger-Arithmetik (int, short, long)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+, -, *, /,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leitkomma-Arithmetik (float, double)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+, -, *, 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oolesche Arithmetik (boolean)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amp;&amp;, ||,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gleichsoperatore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==, !=, &lt;, &gt;, &lt;=, &gt;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weisungsoperatore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=, +=, -=, *=, /=, %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krement-Operator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krement-Operator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it-Operatore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lt;&lt;, &gt;&gt;, &amp;, |, ~, ^,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pezielle Operatore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?:, (ty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Operatoren / Integer-Arithmetik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2514600"/>
            <a:ext cx="70866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ositives Vorzeiche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+98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egatives Vorzeiche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-23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dditio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12 + 98 (= 1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ubtraktio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12 - 98 (= -8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ultiplikatio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6 * 5   (= 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anzzahl-Divisio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7 / 3   (=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stbildung (modulo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7 % 3   (=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1440" y="1203480"/>
            <a:ext cx="601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peranden vom Typ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shor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oder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lo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lieferter Wert vom Typ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shor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bzw.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lo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Operatoren / Gleitkomma-Arithmetik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1760" y="22096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ves Vorzeich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45.67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atives Vorzeich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3.4e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.2 + 9.8 (= 11.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trak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.2 - 9.8 (= -8.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ik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.1 * 5.0 (= 30.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eitkomma-Divis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9.0 / 2.0 (= 4.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1080" y="1203480"/>
            <a:ext cx="570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nden vom Typ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de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lieferter Wert vom Typ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de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22120" y="5695920"/>
            <a:ext cx="299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dungsfehler möglich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095880" y="5181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Operatoren / boolesche Arithmetik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1976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njunktio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true &amp;&amp; false (=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||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sjunktio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true || false (= tr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!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egatio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!true         (=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2880" y="1432080"/>
            <a:ext cx="444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peranden vom Typ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lieferter Wert vom Typ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Operatoren / Vergleiche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leichhei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4 == 5    (= fal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!=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gleichhei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6 != 7    (= tr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leiner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-2. &lt; 0.1 (= tr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&lt;=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leiner-Gleic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3 &lt;= 3    (= tr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rößer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'a' &gt; 'b' (= fal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&gt;=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rößer-Gleic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1 &gt;= -1   (= tr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1080" y="1432080"/>
            <a:ext cx="824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peranden vom Typ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shor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lon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oder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lieferter Wert vom Typ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Operatoren / Zuweisung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8640" y="971640"/>
            <a:ext cx="7800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nden von beliebigem Ty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lieferter Wert vom Typ der Opera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Zuweisung&gt; ::= &lt;Variablenname&gt; "=" &lt;Ausdruck&gt; ";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33520" y="3333600"/>
            <a:ext cx="5972040" cy="27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nt i = 0, j = -34; // Initialis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 = 45;             // Zuweis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 = i + 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j = i = j + i*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double pi = 3.141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pi = 3.141563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Operatoren / Bedingungsoperator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21720" y="990720"/>
            <a:ext cx="5762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rnärer Op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ster Operand vom Typ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peranden zwei und drei typkon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11480" y="2819520"/>
            <a:ext cx="38383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nt i = 45, j = 46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nt k = i&lt;j ? i-1 : j+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nt k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f (i&lt;j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k = i-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k = j+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9880" y="39625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Operatoren / Typumwandlungen (1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066320"/>
            <a:ext cx="64771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ige Typumwandlung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mplizi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short    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int     l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float     dou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rithmetisch             Gleitkom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char     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short s =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nt i = 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long l = i = 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float f = 3.4F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double d = f * 2.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float g = 3 +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nt b = 'a'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'z' - 'a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66880" y="1600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62520" y="1600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666880" y="1905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14600" y="2514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52680" y="2209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30880" y="5791320"/>
            <a:ext cx="265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CII-Reprä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913200" y="60228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1066680"/>
            <a:ext cx="44197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Operatoren / Typumwandlungen (2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0773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xplizite Typumwandlung (Typcast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&lt;Cast&gt; ::= "(" &lt;Typ&gt; ")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double d = 7.99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nt i = (int) d;  // i ==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nt zahl = 330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short s = (short)zahl; // Abschneiden der oberen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// s == -325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icht alle Typumwandlungen sind erlaub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nt wahr = (int)true;  // Fehler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Operatoren / Präzedenz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ostfix-Operator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[], ., ++, 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äre Operator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+, -, ~,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zeugung / Typumwandlun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new, (ty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ultiplikationsoperator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*, /,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dditionsoperator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+,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leichheitsoperator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==, !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ogisches Und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ogisches Od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|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dingungsoperato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?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weisungsoperator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=, +=, *=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32560" y="6076800"/>
            <a:ext cx="714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änderung der Präzedenz durch Klammernsetzung möglich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8840" y="987480"/>
            <a:ext cx="403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e mit absteigender Präzedenz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Gliederung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0920" y="1052640"/>
            <a:ext cx="74898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nty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sdrüc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o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ngabeanweis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ispi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fga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Operatoren / Assoziativität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chtig bei Operatoren gleicher Präzeden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le unären Operatoren sind rechts-assoziat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le binären Operatoren außer den Zuweisungsoperatoren sind links-assoziat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uweisungsoperatoren sind rechts-assoziat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r ternäre Bedingungsoperator (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?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 ist rechts-assoziat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ssoziativität ist bspw. von Bedeutung bei Funktionen mit Seiteneffekte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04920" y="4386240"/>
            <a:ext cx="688644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= j *= k + 78;        i = (j *= (k + 78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= j * k / 5;          i = (j * k) / 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14800" y="4648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14800" y="5029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Operatoren / Auswertungsreihenfolge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nden werden immer von links nach rechts ausgewert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chtig bei Seiteneffekte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der Operand wird vor der Ausführung des Operators ausgewerte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snahmen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amp;&amp;, ||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?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8480" y="3879720"/>
            <a:ext cx="7343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p &amp;&amp; q          p ? q : 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p || q          p ? true :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o1 ? o2 : o3    werte o1 aus; falls true, we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o2 ansonsten o3 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14600" y="4114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14600" y="4724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Strings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990720"/>
            <a:ext cx="861084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5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Datentyp für Zeichenket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5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ferenzdatentyp (Strings sind Objekte); kein Standarddatenty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String h = "hello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String w = "world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String h_w = h + " " + w + "!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// + ist Concatenation-Operator: "hello world!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nt zahl = 471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String duft = "koelnisch Wasser = " + zah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// Typumwandlung: "koelnisch Wasser = 4711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String s1 = "hello" + zah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String s2 = "hello" + zah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boolean vgl1 = s1 == s2; // liefert false (Ref.vergl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boolean vgl2 = s1.equals(s2); // vergleicht Zeichenket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Strings / Beispielprogramm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838080"/>
            <a:ext cx="853416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fgab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echnung des Quadrats einer eingegebenen Zah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" y="2852640"/>
            <a:ext cx="8640720" cy="35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class Quadratzahl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nt zahl = IO.readInt("Zahl: 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nt quadrat = zahl * zah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String ausgabe = zahl + " * " + zahl + " = " + quadr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System.out.println(ausgab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Eingabeanweisungen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9640" y="1052640"/>
            <a:ext cx="828036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class Eingaben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// pro Typ zwei Eingabefunkti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nt zahl = IO.readInt("Zahl: 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char c = IO.readChar("Buchstabe: 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double pi = IO.readDouble("PI: 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long gross = IO.readLong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tring antwort = IO.readString("alles klar?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Beispiel 1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1268280"/>
            <a:ext cx="8280360" cy="50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class Kegelvolumen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"Berechnung des Volumens eines Kegels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double pi = 3.141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double hoehe = IO.readDouble("Hoehe: 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double radius = IO.readDouble("Radius: 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ystem.out.println("Volumen = " +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1.0/3.0 * pi * radius * radius * hoeh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Beispiel 2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9640" y="907920"/>
            <a:ext cx="8280360" cy="57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class ZinsesZin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ystem.out.println("Berechnung des ZinsesZins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double kapital = IO.readDouble("Kapital: 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double zinssatz = IO.readDouble("Zinssatz: 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double neuKapital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kapital * (1.0 + zinssatz / 100.0)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(1.0 + zinssatz / 100.0)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(1.0 + zinssatz / 100.0)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(1.0 + zinssatz / 100.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"Kapital in 4 Jahren = " + neuKapita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Beispiel 3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reiben Sie ein Programm "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Pass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", das zunächst einen Kleinbuchstaben und dann einen Großbuchstaben einliest und dann überprüft, ob diese zueinander passen, d.h. Kleinbuchstabe entspricht Großbuchstab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spi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$ java Pas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Kle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h&lt;C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Gro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H&lt;C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pas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$ java Pas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Kle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d&lt;C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Gro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E&lt;C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passen ni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808720" y="2622600"/>
            <a:ext cx="552996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class Pass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public static void main(String[] a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char klein = IO.readChar("Klein: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char gross = IO.readChar("Gross: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f (klein-'a' == gross-'A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O.println("passe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O.println("passen nicht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Aufgabe 1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282320"/>
            <a:ext cx="8534160" cy="47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reiben Sie ein Java-Programm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NachKommaStell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das die Eingabe eines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Wertes erwartet und die ersten 4 Nachkommastellen als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Wert auf den Bildschirm ausgib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$ java NachKommaStel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Eingabe: 12.3456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Ausgabe: 34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$ java NachKommaStel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Eingabe: -2.0001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Ausgabe: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Aufgabe 2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reiben Sie ein Java-Programm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Mors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das die Eingabe eines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Wertes über die Tastatur erwartet. Das Programm soll anschließend die Eingabe überprüfen und falls es sich um eine Ziffer handelt, diese ins Morse-Alphabet übersetzen und die entsprechende Morse-Kodierung auf den Bildschirm ausgeben. Hier das entsprechende Morse-Alphabe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1 .----   2 ..---  3 ...--  4 ....-  5 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6 -....   7 --...  8 ---..  9 ----.  0 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$ java Mo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Eingabe: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Ausgabe: ....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$ java Mo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Eingabe: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Ausgabe: ungueltiges Zeic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Datentypen (1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 haben unterschiedliche Eigenschaf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anze Zahlen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, 4711, -45,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elle Zahlen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3.4, -56.789678, -3.4e-10, 45.567e123,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uchstaben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'a', 'b',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eichenketten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"hello world!",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sinn: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3 + "hello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terschiedliche Daten benötigen unterschiedlich viel Pla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oolesche Werte: 1 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SCII-Zeichen: 7 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tivation für Datentyp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Überprüfung "sinnvoller" Operat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servierung von "passendem" Speicherpla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Datentypen (2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fache Datentypen in Jav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weder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oder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6-Bit-Uni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byt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8-Bit-Integer, vorzeichenbehaftetes 2er-Kompl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shor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6-Bit-Integer, vorzeichenbehaftetes 2er-Kompl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2-Bit-Integer, vorzeichenbehaftetes 2er-Kompl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lo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64-Bit-Integer, vorzeichenbehaftetes 2er-Kompl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2-Bit-Gleitkommazahl (IEEE 754-198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64-Bit-Gleitkommazahl (IEEE 754-198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ertebereiche beschränkt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 [-2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31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... 2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31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int max = 2147483647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max = max + 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max: -21474836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Datentypen (3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2209320"/>
            <a:ext cx="86104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lvl="1" marL="7131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N.A.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N.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'\u0000'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\u0000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\uFF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byte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-128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12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short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-32768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3276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-2147483648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214748364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long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0L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-92233720368547758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92233720368547758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0.0F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+-3.40282347E+3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+-1.40239846E-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0.0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+-1.79769313486231570E+3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+-4.94065645841246544E-3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85440" y="121608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02760" y="1231920"/>
            <a:ext cx="117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lein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81200" y="1247760"/>
            <a:ext cx="105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öß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9718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1972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104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Variablen / Definition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63960" y="1073160"/>
            <a:ext cx="8273160" cy="15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Variablendefinition&gt; ::=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&lt;Datentyp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ezeichner&gt; "=" &lt;Ausdruck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"," &lt;Bezeichner&gt; "=" &lt;Ausdruck&gt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";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73440" y="3152880"/>
            <a:ext cx="6276600" cy="28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nt anzahl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long grosseZahl = 1234567891234567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float pi = 3.1415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double nochEine = 4.5, nochZwei = 2.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char eins = '1', zwei = '2', drei = '3'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Variablen / Initialisierung (1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3152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eichenketten a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zimale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ktalen (führende 0)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0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exadezimalen Ziffern (führendes 0x)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0x1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0280" y="1066680"/>
            <a:ext cx="6080040" cy="20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itialisierung von Variab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lizit durch Default-W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xplizit mit Hilfe von Literalen bzw. Ausdrück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mpfehlung: Variablen immer explizit initialisieren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Literal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Typ-spezifische Konstan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Variablen / Initialisierung (2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279080"/>
            <a:ext cx="8839080" cy="488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lon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Literal mit nachgestelltem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l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der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29L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4321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doub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zimalzahlen mit Dezimalpunkt und optionalem Expon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18.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1.8e1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.18E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flo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Literal mit nachgestelltem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f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der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18.0f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1.8e1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ch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eichen zwischen zwei Apostrophe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'a'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'A'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'2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der Sonderzeichen mit Escape-Sequenz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'\n'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'\"'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'\\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Courier New"/>
              </a:rPr>
              <a:t>Zeichenketten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eich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wischen zwei Anführungszeiche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"hello\n world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Ausdrücke / Definition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3352680"/>
            <a:ext cx="853452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&lt;Ausdruck&gt; ::=   &lt;Litera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| &lt;Variablenna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| &lt;Funktionsaufruf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| "(" &lt;Ausdruck&gt; ")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| &lt;unär-Op&gt; &lt;Ausdruck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| &lt;Ausdruck&gt; &lt;binär-Op&gt; &lt;Ausdruck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| &lt;Ausdruck&gt; &lt;ternär-Op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&lt;Ausdruck&gt; &lt;ternär-Op2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&lt;Ausdruck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434340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1219320"/>
            <a:ext cx="853416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sdruc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arbeitungsvorschrift, deren Ausführung eine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ines bestimmten Typs lief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steht, indem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rand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i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rator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erknüpft wer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nden müsse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ypkonfo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i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0-18T10:43:32Z</dcterms:created>
  <dc:creator>SWL</dc:creator>
  <dc:description/>
  <cp:keywords/>
  <dc:language>en-US</dc:language>
  <cp:lastModifiedBy>Dietrich Boles</cp:lastModifiedBy>
  <cp:lastPrinted>2000-09-04T14:51:16Z</cp:lastPrinted>
  <dcterms:modified xsi:type="dcterms:W3CDTF">2005-11-15T11:13:05Z</dcterms:modified>
  <cp:revision>98</cp:revision>
  <dc:subject/>
  <dc:title>gmds ‘96, Bonn, 18.9.96</dc:title>
</cp:coreProperties>
</file>