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480" y="225360"/>
            <a:ext cx="776124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0440" y="800280"/>
            <a:ext cx="764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21840" y="6611760"/>
            <a:ext cx="63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10680" y="6611760"/>
            <a:ext cx="73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5240" y="6553080"/>
            <a:ext cx="880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6537240"/>
            <a:ext cx="849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grammierung 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Java-Programm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trich Bol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19CE6C4C-160C-4851-A4B9-53DDC972B48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921800" y="304920"/>
          <a:ext cx="993600" cy="59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1800" y="304920"/>
                    <a:ext cx="9936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grammierung I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401920" cy="415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19160" y="1341360"/>
            <a:ext cx="48214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lesung an 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richtseinheit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-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 -Entwicklungswerk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2440" y="5502240"/>
            <a:ext cx="31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18ffd"/>
                </a:solidFill>
                <a:latin typeface="Arial"/>
              </a:rPr>
              <a:t>Dr. Dietrich B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Ein- und Ausgabe / Ausgabeanweisung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501920"/>
            <a:ext cx="82803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 Ausgabe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Courier New"/>
              </a:rPr>
              <a:t>System.out.print(471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Courier New"/>
              </a:rPr>
              <a:t>System.out.println(" ist eine positive Zahl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fuenf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Courier New"/>
              </a:rPr>
              <a:t>IO.print(-fuen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Courier New"/>
              </a:rPr>
              <a:t>IO.println(" ist eine negative Zahl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Ein- und Ausgabe / Eingabeanweisung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41300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 Eingabe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Courier New"/>
              </a:rPr>
              <a:t>int zahl = IO.readInt("Zahl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quadratZahl = zahl * zah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("Quadratzahl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ln(quadratZah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("Kubikzahl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ln(quadratZahl * zah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670040"/>
            <a:ext cx="79200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 RechteckFlaech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"Berechnung der Flaeche eines Rechtecks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laenge = IO.readInt("Laenge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breite = IO.readInt("Breite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("Flaeche =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ln(laenge * brei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5200" y="981000"/>
            <a:ext cx="61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 zur Flächenberechnung eines Rechtec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 2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en Sie ein Programm "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Umkeh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", das zunächst eine Zahl von der Tastatur einliest und diese dann in umgekehrter Reihenfolge wieder ausgib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$ java Umke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ah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3567&lt;C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76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$ java Umke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ah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1210&lt;C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0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89960" y="2398680"/>
            <a:ext cx="552996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Umkeh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zahl = IO.readInt("Zahl: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zahl &gt;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(zahl %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zahl = zahl /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O.printl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JO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154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facher Java-Editor mit integrierten Entwicklungswerkzeu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ww.javaeditor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052720" y="2303640"/>
          <a:ext cx="5111640" cy="35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2303640"/>
                    <a:ext cx="5111640" cy="35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Eclips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154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mplexe, mächtige Java-Entwicklungsumge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ww.eclips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908000" y="1989000"/>
          <a:ext cx="5472360" cy="40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989000"/>
                    <a:ext cx="5472360" cy="40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066680"/>
            <a:ext cx="8370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gabe 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en Sie ein Programm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QuaderVolu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as das Volumen eines Quaders berechnet und ausgibt. Die Kantenlängen sollen eingelesen werden. Nutzen Sie dab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Java-Standardentwicklungswerkzeu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2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066680"/>
            <a:ext cx="8370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gabe 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en Sie ein Programm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Quersum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as die Quersumme einer einzulesenden Zahl berechnet und auf den Bildschirm ausgibt. Nutzen Sie dab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Java-Standardentwicklungswerkzeu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lieder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0920" y="1052640"/>
            <a:ext cx="7489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erstel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iede zum Hamster-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- und Ausg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nstalla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http://java.sun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wnload J2SE 5.0 Update X JDK (nicht JR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tallieren (Installationsverzeichnis merken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 Umständen die PATH-Umgebungsvariable erweitern 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&lt;Installationsverzeichnis&gt;\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m Verzeichnis befinden sich die Befehle, um die Standard-Java-Entwicklungswerkzeuge (Compiler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jav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Interpreter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aufzuru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grammerstellung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Erstellen des Programm-Quellcodes (Edito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04920" y="1752480"/>
            <a:ext cx="8546040" cy="2014200"/>
            <a:chOff x="304920" y="1752480"/>
            <a:chExt cx="8546040" cy="2014200"/>
          </a:xfrm>
        </p:grpSpPr>
        <p:grpSp>
          <p:nvGrpSpPr>
            <p:cNvPr id="57" name=""/>
            <p:cNvGrpSpPr/>
            <p:nvPr/>
          </p:nvGrpSpPr>
          <p:grpSpPr>
            <a:xfrm>
              <a:off x="2133720" y="2533680"/>
              <a:ext cx="761760" cy="380880"/>
              <a:chOff x="2133720" y="2533680"/>
              <a:chExt cx="761760" cy="380880"/>
            </a:xfrm>
          </p:grpSpPr>
          <p:sp>
            <p:nvSpPr>
              <p:cNvPr id="58" name=""/>
              <p:cNvSpPr/>
              <p:nvPr/>
            </p:nvSpPr>
            <p:spPr>
              <a:xfrm>
                <a:off x="2895480" y="2533680"/>
                <a:ext cx="0" cy="3808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133720" y="2701800"/>
                <a:ext cx="60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04920" y="1752480"/>
              <a:ext cx="8546040" cy="2014200"/>
              <a:chOff x="304920" y="1752480"/>
              <a:chExt cx="8546040" cy="2014200"/>
            </a:xfrm>
          </p:grpSpPr>
          <p:sp>
            <p:nvSpPr>
              <p:cNvPr id="61" name=""/>
              <p:cNvSpPr/>
              <p:nvPr/>
            </p:nvSpPr>
            <p:spPr>
              <a:xfrm>
                <a:off x="2909520" y="1752480"/>
                <a:ext cx="594144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 New"/>
                  </a:rPr>
                  <a:t>class </a:t>
                </a:r>
                <a:r>
                  <a:rPr b="1" lang="de-DE" sz="1800" spc="-1" strike="noStrike" u="sng">
                    <a:solidFill>
                      <a:srgbClr val="000000"/>
                    </a:solidFill>
                    <a:uFillTx/>
                    <a:latin typeface="Courier New"/>
                  </a:rPr>
                  <a:t>World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Courier New"/>
                  </a:rPr>
                  <a:t> {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Courier New"/>
                  </a:rPr>
                  <a:t>public static void main(String[] args) {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Courier New"/>
                  </a:rPr>
                  <a:t>System.out.println("Hello world!"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 New"/>
                  </a:rPr>
                  <a:t>}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04920" y="2514600"/>
                <a:ext cx="171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nweisung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380880" y="4419720"/>
            <a:ext cx="7925040" cy="1434960"/>
            <a:chOff x="380880" y="4419720"/>
            <a:chExt cx="7925040" cy="1434960"/>
          </a:xfrm>
        </p:grpSpPr>
        <p:sp>
          <p:nvSpPr>
            <p:cNvPr id="64" name=""/>
            <p:cNvSpPr/>
            <p:nvPr/>
          </p:nvSpPr>
          <p:spPr>
            <a:xfrm>
              <a:off x="380880" y="4419720"/>
              <a:ext cx="79250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(2) Abspeichern des Quellcodes in einer Datei mit dem Name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&lt;Klassenbezeichner&gt;.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7760" y="5486400"/>
              <a:ext cx="373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peichern in Datei: 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World.java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grammerstellung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3) Compilieren des Quellcodes (Compiler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jav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7800" y="151920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: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javac World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5334120"/>
            <a:ext cx="7924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6) Ausführung des Programms (mittels Interpreter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52240" y="472428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: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orld.cla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133720"/>
            <a:ext cx="80010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4) Solange der Compiler Fehlermeldungen lief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4.1) Fehler beseitigen (Edi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4.2) erneut compilieren (Compil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3595680"/>
            <a:ext cx="80010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5) Findet der Compiler keine Fehler, erzeugt er eine Datei, die Java-Bytecode enthält; sie trägt den Na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Klassenbezeichner&gt;.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8520" y="588168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: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java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Unterschiede zum Hamster-Modell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Java-Programme sind Kl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 &lt;Programmnam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Funktionen und globale Variable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Anweisunge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 Prozeduren und Funktionen: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 globalen Variablen: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mster-Befehle existieren (natürlich) n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Unterschiede zum Hamster-Modell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1054080"/>
            <a:ext cx="85341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aufga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echnung des Quadrats einer bestimmten Za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3168720"/>
            <a:ext cx="828036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 Quadratzahl1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zahl = 8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quadratZahl = zahl * zah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ln(quadratZah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Unterschiede zum Hamster-Modell (3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1054080"/>
            <a:ext cx="85341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1700280"/>
            <a:ext cx="720108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 Quadratzahl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atic int quadratZah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atic void berechne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zahl = 8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quadratZahl = zahl * zah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erechne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ln(quadratZah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Ein- und Ausgab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definierte Java-Klasse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 Stud.IP herunterladen, Datei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O.java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Java-Quellc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O.clas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Java-Bytec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O.READM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formation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Datei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O.clas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uss sich in demselben Verzeichnis befinden, wie ein Java-Programm, das compiliert bzw. ausgeführt werden soll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abeanweisungen; z.B.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Courier New"/>
              </a:rPr>
              <a:t>int zahl = IO.readIn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gabeanweisu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ava-Standard: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Courier New"/>
              </a:rPr>
              <a:t>System.out.println("hello!")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z.B.: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Courier New"/>
              </a:rPr>
              <a:t>IO.println("hello!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8T10:43:32Z</dcterms:created>
  <dc:creator>SWL</dc:creator>
  <dc:description/>
  <cp:keywords/>
  <dc:language>en-US</dc:language>
  <cp:lastModifiedBy>Dietrich Boles</cp:lastModifiedBy>
  <cp:lastPrinted>2000-09-04T14:51:16Z</cp:lastPrinted>
  <dcterms:modified xsi:type="dcterms:W3CDTF">2005-11-15T17:23:06Z</dcterms:modified>
  <cp:revision>97</cp:revision>
  <dc:subject/>
  <dc:title>gmds ‘96, Bonn, 18.9.96</dc:title>
</cp:coreProperties>
</file>