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480" y="225360"/>
            <a:ext cx="776124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0440" y="800280"/>
            <a:ext cx="764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21840" y="6611760"/>
            <a:ext cx="63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10680" y="6611760"/>
            <a:ext cx="73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5240" y="6553080"/>
            <a:ext cx="880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6537240"/>
            <a:ext cx="849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grammierung 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inführung in Java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trich Bol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B2EBA419-F90D-4747-9ED0-AEA187FE4D9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921800" y="304920"/>
          <a:ext cx="993600" cy="59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1800" y="304920"/>
                    <a:ext cx="9936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java.sun.com/" TargetMode="External"/><Relationship Id="rId2" Type="http://schemas.openxmlformats.org/officeDocument/2006/relationships/hyperlink" Target="http://java.sun.com/" TargetMode="External"/><Relationship Id="rId3" Type="http://schemas.openxmlformats.org/officeDocument/2006/relationships/hyperlink" Target="http://java.sun.com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ierung I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401920" cy="415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19160" y="1341360"/>
            <a:ext cx="482148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lesung an 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richtseinheit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führung in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2440" y="5502240"/>
            <a:ext cx="31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18ffd"/>
                </a:solidFill>
                <a:latin typeface="Arial"/>
              </a:rPr>
              <a:t>Dr. Dietrich B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lieder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576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Programmiersprache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134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ist Jav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134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134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enschaften und Begri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134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eitswe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134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 erstes Java-Progr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134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Was ist Java ?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150000"/>
              </a:lnSpc>
              <a:spcBef>
                <a:spcPts val="1950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ative objektorientierte Programmierspr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1950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wicklungswerkze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1950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ssenbiblioth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1950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/Software-Tech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1950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ponentenarchite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1950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kalter Kaffee"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Historie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991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n-Projekt Green (Software für Konsumermar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991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O-Programmiersprache O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/1992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rmeninterne Vorstellung von "Star Sev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1/1992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ündung der Firma "First Perso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/1993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lösung der F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/1993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n des WWW-B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995: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benennung von Oak in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5/1994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otJava (Browser mit Applet-Funktionalitä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2/1995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zensierung durch Net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1/1996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DK 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Historie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133280"/>
            <a:ext cx="754380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1/1996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rma Java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5/1996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avaB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2/1997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DK 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997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ava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997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avaStation (diskettenlose Works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997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icoJava (Java-Prozess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998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DK 1.2 / Java 2 Plattform Standard Edition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000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2SE 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2SE 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004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2SE 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ste Informatione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20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java.sun.com</a:t>
            </a:r>
            <a:r>
              <a:rPr b="0" lang="de-DE" sz="2000" spc="-1" strike="noStrike" u="sng">
                <a:solidFill>
                  <a:srgbClr val="fc0128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Eigenschaft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143000"/>
            <a:ext cx="38098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bjektorient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te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1143000"/>
            <a:ext cx="38098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chitekturunabhäng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rt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ltithrea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ynam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isch geprü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i verfüg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griff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143000"/>
            <a:ext cx="822960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ava-Applikatio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ava-Programme auf Betriebssystemebe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ava-Applet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ava-Programme in WWW-Brows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D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ava Developers Kit (Standard Java Distribution: Werkzeuge, Klassen, JV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V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ava Virtual Maschine (Java Byte Code Interpre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rbeitsweis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00400" y="1066680"/>
            <a:ext cx="2819520" cy="685800"/>
            <a:chOff x="3200400" y="1066680"/>
            <a:chExt cx="2819520" cy="685800"/>
          </a:xfrm>
        </p:grpSpPr>
        <p:sp>
          <p:nvSpPr>
            <p:cNvPr id="65" name=""/>
            <p:cNvSpPr/>
            <p:nvPr/>
          </p:nvSpPr>
          <p:spPr>
            <a:xfrm>
              <a:off x="3200400" y="1066680"/>
              <a:ext cx="2819520" cy="685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73120" y="1203120"/>
              <a:ext cx="26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ava-Quell-Progra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394960" y="4165560"/>
            <a:ext cx="831960" cy="2252880"/>
            <a:chOff x="5394960" y="4165560"/>
            <a:chExt cx="831960" cy="2252880"/>
          </a:xfrm>
        </p:grpSpPr>
        <p:sp>
          <p:nvSpPr>
            <p:cNvPr id="68" name=""/>
            <p:cNvSpPr/>
            <p:nvPr/>
          </p:nvSpPr>
          <p:spPr>
            <a:xfrm>
              <a:off x="5394960" y="4165560"/>
              <a:ext cx="816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10800" y="5410080"/>
              <a:ext cx="816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429000" y="1752480"/>
            <a:ext cx="2362320" cy="1067040"/>
            <a:chOff x="3429000" y="1752480"/>
            <a:chExt cx="2362320" cy="1067040"/>
          </a:xfrm>
        </p:grpSpPr>
        <p:grpSp>
          <p:nvGrpSpPr>
            <p:cNvPr id="71" name=""/>
            <p:cNvGrpSpPr/>
            <p:nvPr/>
          </p:nvGrpSpPr>
          <p:grpSpPr>
            <a:xfrm>
              <a:off x="3429000" y="2133720"/>
              <a:ext cx="2362320" cy="685800"/>
              <a:chOff x="3429000" y="2133720"/>
              <a:chExt cx="2362320" cy="685800"/>
            </a:xfrm>
          </p:grpSpPr>
          <p:sp>
            <p:nvSpPr>
              <p:cNvPr id="72" name=""/>
              <p:cNvSpPr/>
              <p:nvPr/>
            </p:nvSpPr>
            <p:spPr>
              <a:xfrm>
                <a:off x="3429000" y="2133720"/>
                <a:ext cx="2362320" cy="68580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40680" y="2297520"/>
                <a:ext cx="1825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Java-Compil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572000" y="175248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00400" y="2819520"/>
            <a:ext cx="2819160" cy="1066680"/>
            <a:chOff x="3200400" y="2819520"/>
            <a:chExt cx="2819160" cy="1066680"/>
          </a:xfrm>
        </p:grpSpPr>
        <p:grpSp>
          <p:nvGrpSpPr>
            <p:cNvPr id="76" name=""/>
            <p:cNvGrpSpPr/>
            <p:nvPr/>
          </p:nvGrpSpPr>
          <p:grpSpPr>
            <a:xfrm>
              <a:off x="3200400" y="3200400"/>
              <a:ext cx="2819160" cy="685800"/>
              <a:chOff x="3200400" y="3200400"/>
              <a:chExt cx="2819160" cy="685800"/>
            </a:xfrm>
          </p:grpSpPr>
          <p:sp>
            <p:nvSpPr>
              <p:cNvPr id="77" name=""/>
              <p:cNvSpPr/>
              <p:nvPr/>
            </p:nvSpPr>
            <p:spPr>
              <a:xfrm>
                <a:off x="3200400" y="3200400"/>
                <a:ext cx="2819160" cy="685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15920" y="3352680"/>
                <a:ext cx="186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Java-Byte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572000" y="281952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3886200"/>
            <a:ext cx="2514600" cy="1219320"/>
            <a:chOff x="762120" y="3886200"/>
            <a:chExt cx="2514600" cy="1219320"/>
          </a:xfrm>
        </p:grpSpPr>
        <p:grpSp>
          <p:nvGrpSpPr>
            <p:cNvPr id="81" name=""/>
            <p:cNvGrpSpPr/>
            <p:nvPr/>
          </p:nvGrpSpPr>
          <p:grpSpPr>
            <a:xfrm>
              <a:off x="762120" y="4267080"/>
              <a:ext cx="2057400" cy="838440"/>
              <a:chOff x="762120" y="4267080"/>
              <a:chExt cx="2057400" cy="838440"/>
            </a:xfrm>
          </p:grpSpPr>
          <p:sp>
            <p:nvSpPr>
              <p:cNvPr id="82" name=""/>
              <p:cNvSpPr/>
              <p:nvPr/>
            </p:nvSpPr>
            <p:spPr>
              <a:xfrm>
                <a:off x="762120" y="4267080"/>
                <a:ext cx="2057400" cy="83844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127160" y="4327560"/>
                <a:ext cx="1326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für Win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H="1">
              <a:off x="1752480" y="3886200"/>
              <a:ext cx="152424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019920" y="3886200"/>
            <a:ext cx="2590560" cy="1219320"/>
            <a:chOff x="6019920" y="3886200"/>
            <a:chExt cx="2590560" cy="1219320"/>
          </a:xfrm>
        </p:grpSpPr>
        <p:grpSp>
          <p:nvGrpSpPr>
            <p:cNvPr id="86" name=""/>
            <p:cNvGrpSpPr/>
            <p:nvPr/>
          </p:nvGrpSpPr>
          <p:grpSpPr>
            <a:xfrm>
              <a:off x="6553080" y="4267080"/>
              <a:ext cx="2057400" cy="838440"/>
              <a:chOff x="6553080" y="4267080"/>
              <a:chExt cx="2057400" cy="838440"/>
            </a:xfrm>
          </p:grpSpPr>
          <p:sp>
            <p:nvSpPr>
              <p:cNvPr id="87" name=""/>
              <p:cNvSpPr/>
              <p:nvPr/>
            </p:nvSpPr>
            <p:spPr>
              <a:xfrm>
                <a:off x="6553080" y="4267080"/>
                <a:ext cx="2057400" cy="83844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20560" y="4314960"/>
                <a:ext cx="1497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ür Explor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6019920" y="3886200"/>
              <a:ext cx="9903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971800" y="3886200"/>
            <a:ext cx="2057400" cy="1219320"/>
            <a:chOff x="2971800" y="3886200"/>
            <a:chExt cx="2057400" cy="1219320"/>
          </a:xfrm>
        </p:grpSpPr>
        <p:grpSp>
          <p:nvGrpSpPr>
            <p:cNvPr id="91" name=""/>
            <p:cNvGrpSpPr/>
            <p:nvPr/>
          </p:nvGrpSpPr>
          <p:grpSpPr>
            <a:xfrm>
              <a:off x="2971800" y="4267080"/>
              <a:ext cx="2057400" cy="838440"/>
              <a:chOff x="2971800" y="4267080"/>
              <a:chExt cx="2057400" cy="838440"/>
            </a:xfrm>
          </p:grpSpPr>
          <p:sp>
            <p:nvSpPr>
              <p:cNvPr id="92" name=""/>
              <p:cNvSpPr/>
              <p:nvPr/>
            </p:nvSpPr>
            <p:spPr>
              <a:xfrm>
                <a:off x="2971800" y="4267080"/>
                <a:ext cx="2057400" cy="83844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398760" y="4314960"/>
                <a:ext cx="1171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für Linu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 flipH="1">
              <a:off x="3962520" y="3886200"/>
              <a:ext cx="30456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838080" y="5105520"/>
            <a:ext cx="2007720" cy="1248120"/>
            <a:chOff x="838080" y="5105520"/>
            <a:chExt cx="2007720" cy="1248120"/>
          </a:xfrm>
        </p:grpSpPr>
        <p:grpSp>
          <p:nvGrpSpPr>
            <p:cNvPr id="96" name=""/>
            <p:cNvGrpSpPr/>
            <p:nvPr/>
          </p:nvGrpSpPr>
          <p:grpSpPr>
            <a:xfrm>
              <a:off x="838080" y="5638680"/>
              <a:ext cx="1904760" cy="714960"/>
              <a:chOff x="838080" y="5638680"/>
              <a:chExt cx="1904760" cy="714960"/>
            </a:xfrm>
          </p:grpSpPr>
          <p:sp>
            <p:nvSpPr>
              <p:cNvPr id="97" name=""/>
              <p:cNvSpPr/>
              <p:nvPr/>
            </p:nvSpPr>
            <p:spPr>
              <a:xfrm>
                <a:off x="838080" y="5638680"/>
                <a:ext cx="1904760" cy="6858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71280" y="5649840"/>
                <a:ext cx="1697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usführba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rogram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828800" y="510552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67040" y="534816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in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048120" y="5105520"/>
            <a:ext cx="1978200" cy="1236960"/>
            <a:chOff x="3048120" y="5105520"/>
            <a:chExt cx="1978200" cy="1236960"/>
          </a:xfrm>
        </p:grpSpPr>
        <p:grpSp>
          <p:nvGrpSpPr>
            <p:cNvPr id="102" name=""/>
            <p:cNvGrpSpPr/>
            <p:nvPr/>
          </p:nvGrpSpPr>
          <p:grpSpPr>
            <a:xfrm>
              <a:off x="3048120" y="5638680"/>
              <a:ext cx="1904760" cy="703800"/>
              <a:chOff x="3048120" y="5638680"/>
              <a:chExt cx="1904760" cy="703800"/>
            </a:xfrm>
          </p:grpSpPr>
          <p:sp>
            <p:nvSpPr>
              <p:cNvPr id="103" name=""/>
              <p:cNvSpPr/>
              <p:nvPr/>
            </p:nvSpPr>
            <p:spPr>
              <a:xfrm>
                <a:off x="3048120" y="5638680"/>
                <a:ext cx="1904760" cy="6858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180960" y="5638680"/>
                <a:ext cx="1697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usführba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rogram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038480" y="510552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01640" y="533412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inu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629400" y="5105520"/>
            <a:ext cx="2321280" cy="1236960"/>
            <a:chOff x="6629400" y="5105520"/>
            <a:chExt cx="2321280" cy="1236960"/>
          </a:xfrm>
        </p:grpSpPr>
        <p:grpSp>
          <p:nvGrpSpPr>
            <p:cNvPr id="108" name=""/>
            <p:cNvGrpSpPr/>
            <p:nvPr/>
          </p:nvGrpSpPr>
          <p:grpSpPr>
            <a:xfrm>
              <a:off x="6629400" y="5638680"/>
              <a:ext cx="1905120" cy="703800"/>
              <a:chOff x="6629400" y="5638680"/>
              <a:chExt cx="1905120" cy="703800"/>
            </a:xfrm>
          </p:grpSpPr>
          <p:sp>
            <p:nvSpPr>
              <p:cNvPr id="109" name=""/>
              <p:cNvSpPr/>
              <p:nvPr/>
            </p:nvSpPr>
            <p:spPr>
              <a:xfrm>
                <a:off x="6629400" y="5654520"/>
                <a:ext cx="1905120" cy="6858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762960" y="5638680"/>
                <a:ext cx="1697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usführba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pp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7620120" y="510552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21080" y="5319720"/>
              <a:ext cx="10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lor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Java-Beispielprogramm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809520" y="914400"/>
            <a:ext cx="3116520" cy="838080"/>
            <a:chOff x="3809520" y="914400"/>
            <a:chExt cx="3116520" cy="838080"/>
          </a:xfrm>
        </p:grpSpPr>
        <p:sp>
          <p:nvSpPr>
            <p:cNvPr id="115" name=""/>
            <p:cNvSpPr/>
            <p:nvPr/>
          </p:nvSpPr>
          <p:spPr>
            <a:xfrm>
              <a:off x="4195800" y="914400"/>
              <a:ext cx="273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c0128"/>
                  </a:solidFill>
                  <a:latin typeface="Arial"/>
                </a:rPr>
                <a:t>Programm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809520" y="1295280"/>
              <a:ext cx="381240" cy="4572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029200" y="1600200"/>
            <a:ext cx="2008800" cy="914400"/>
            <a:chOff x="5029200" y="1600200"/>
            <a:chExt cx="2008800" cy="914400"/>
          </a:xfrm>
        </p:grpSpPr>
        <p:sp>
          <p:nvSpPr>
            <p:cNvPr id="118" name=""/>
            <p:cNvSpPr/>
            <p:nvPr/>
          </p:nvSpPr>
          <p:spPr>
            <a:xfrm>
              <a:off x="5412600" y="1600200"/>
              <a:ext cx="162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c0128"/>
                  </a:solidFill>
                  <a:latin typeface="Arial"/>
                </a:rPr>
                <a:t>Prozed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029200" y="2057400"/>
              <a:ext cx="380880" cy="4572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886200" y="2819520"/>
            <a:ext cx="2511720" cy="520560"/>
            <a:chOff x="3886200" y="2819520"/>
            <a:chExt cx="2511720" cy="520560"/>
          </a:xfrm>
        </p:grpSpPr>
        <p:sp>
          <p:nvSpPr>
            <p:cNvPr id="121" name=""/>
            <p:cNvSpPr/>
            <p:nvPr/>
          </p:nvSpPr>
          <p:spPr>
            <a:xfrm>
              <a:off x="4911120" y="2819520"/>
              <a:ext cx="148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c0128"/>
                  </a:solidFill>
                  <a:latin typeface="Arial"/>
                </a:rPr>
                <a:t>Vari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886200" y="3110040"/>
              <a:ext cx="914400" cy="2286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952880" y="3962520"/>
            <a:ext cx="2536200" cy="520560"/>
            <a:chOff x="4952880" y="3962520"/>
            <a:chExt cx="2536200" cy="520560"/>
          </a:xfrm>
        </p:grpSpPr>
        <p:sp>
          <p:nvSpPr>
            <p:cNvPr id="124" name=""/>
            <p:cNvSpPr/>
            <p:nvPr/>
          </p:nvSpPr>
          <p:spPr>
            <a:xfrm>
              <a:off x="6022080" y="3962520"/>
              <a:ext cx="146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c0128"/>
                  </a:solidFill>
                  <a:latin typeface="Arial"/>
                </a:rPr>
                <a:t>Add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4952880" y="4190760"/>
              <a:ext cx="990720" cy="7596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343400" y="5105520"/>
            <a:ext cx="2968920" cy="991800"/>
            <a:chOff x="4343400" y="5105520"/>
            <a:chExt cx="2968920" cy="991800"/>
          </a:xfrm>
        </p:grpSpPr>
        <p:sp>
          <p:nvSpPr>
            <p:cNvPr id="127" name=""/>
            <p:cNvSpPr/>
            <p:nvPr/>
          </p:nvSpPr>
          <p:spPr>
            <a:xfrm>
              <a:off x="4755600" y="5576760"/>
              <a:ext cx="255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c0128"/>
                  </a:solidFill>
                  <a:latin typeface="Arial"/>
                </a:rPr>
                <a:t>Ausgabebefeh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343400" y="5105520"/>
              <a:ext cx="380880" cy="4572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8120" y="3824280"/>
            <a:ext cx="1447200" cy="825120"/>
            <a:chOff x="78120" y="3824280"/>
            <a:chExt cx="1447200" cy="825120"/>
          </a:xfrm>
        </p:grpSpPr>
        <p:sp>
          <p:nvSpPr>
            <p:cNvPr id="130" name=""/>
            <p:cNvSpPr/>
            <p:nvPr/>
          </p:nvSpPr>
          <p:spPr>
            <a:xfrm>
              <a:off x="78120" y="412884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c0128"/>
                  </a:solidFill>
                  <a:latin typeface="Arial"/>
                </a:rPr>
                <a:t>Schleif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838080" y="3824280"/>
              <a:ext cx="533520" cy="30456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992160" y="914400"/>
            <a:ext cx="1446120" cy="762120"/>
            <a:chOff x="992160" y="914400"/>
            <a:chExt cx="1446120" cy="762120"/>
          </a:xfrm>
        </p:grpSpPr>
        <p:sp>
          <p:nvSpPr>
            <p:cNvPr id="133" name=""/>
            <p:cNvSpPr/>
            <p:nvPr/>
          </p:nvSpPr>
          <p:spPr>
            <a:xfrm>
              <a:off x="992160" y="914400"/>
              <a:ext cx="124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c0128"/>
                  </a:solidFill>
                  <a:latin typeface="Arial"/>
                </a:rPr>
                <a:t>Klas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33720" y="1371600"/>
              <a:ext cx="304560" cy="3049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55520" y="2666880"/>
            <a:ext cx="2317320" cy="685800"/>
            <a:chOff x="155520" y="2666880"/>
            <a:chExt cx="2317320" cy="685800"/>
          </a:xfrm>
        </p:grpSpPr>
        <p:sp>
          <p:nvSpPr>
            <p:cNvPr id="136" name=""/>
            <p:cNvSpPr/>
            <p:nvPr/>
          </p:nvSpPr>
          <p:spPr>
            <a:xfrm>
              <a:off x="155520" y="2666880"/>
              <a:ext cx="231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c0128"/>
                  </a:solidFill>
                  <a:latin typeface="Arial"/>
                </a:rPr>
                <a:t>Anweisun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520" y="3124080"/>
              <a:ext cx="685800" cy="2286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09480" y="1752480"/>
            <a:ext cx="80773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public class Sum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public static void main (String[] arg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 erg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for (int akt = 1; akt &lt;= 100; akt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erg = erg + ak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System.out.println("Sum(1,100)="+er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2" dur="1" fill="hold"/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8T10:43:32Z</dcterms:created>
  <dc:creator>SWL</dc:creator>
  <dc:description/>
  <cp:keywords/>
  <dc:language>en-US</dc:language>
  <cp:lastModifiedBy>Dietrich Boles</cp:lastModifiedBy>
  <cp:lastPrinted>2000-09-04T14:51:16Z</cp:lastPrinted>
  <dcterms:modified xsi:type="dcterms:W3CDTF">2005-11-01T18:05:04Z</dcterms:modified>
  <cp:revision>83</cp:revision>
  <dc:subject/>
  <dc:title>gmds ‘96, Bonn, 18.9.96</dc:title>
</cp:coreProperties>
</file>