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D9CFEB6-98EB-45A1-9752-4F5409074DE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19160" y="1341360"/>
            <a:ext cx="4821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amster-Mod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Operator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h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4 == 5    (=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leichh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6 != 7 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-2 &lt; 1 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r-Gl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3 &lt;= 3 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öß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3 &gt; 3     (=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ößer-Gl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1 &gt;= -1   (=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1440" y="1432080"/>
            <a:ext cx="54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iefert wird boolescher Wert (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Zuweisung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923760"/>
            <a:ext cx="856296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nderung von Variablenwe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Zuweisung&gt; ::= &lt;Variablenname&gt; "=" &lt;Ausdruck&gt; ";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Ausdruck wird berechnet und der berechnete W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Variablen gespeich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alte Wert der Variablen geht verl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schritte = 3; // Initial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chritte = 5;     // Zu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chritte = schrit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chritte = 5 * (schritte -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Zuweisung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9907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520" y="20574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zahl =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446080" y="3325320"/>
            <a:ext cx="648720" cy="1096200"/>
            <a:chOff x="5446080" y="3325320"/>
            <a:chExt cx="648720" cy="1096200"/>
          </a:xfrm>
        </p:grpSpPr>
        <p:sp>
          <p:nvSpPr>
            <p:cNvPr id="101" name=""/>
            <p:cNvSpPr/>
            <p:nvPr/>
          </p:nvSpPr>
          <p:spPr>
            <a:xfrm>
              <a:off x="5460840" y="332568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60840" y="40114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070680" y="332532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6080" y="402264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ah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31200" y="355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number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13480" y="3298320"/>
            <a:ext cx="1044720" cy="1096200"/>
            <a:chOff x="7413480" y="3298320"/>
            <a:chExt cx="1044720" cy="1096200"/>
          </a:xfrm>
        </p:grpSpPr>
        <p:sp>
          <p:nvSpPr>
            <p:cNvPr id="107" name=""/>
            <p:cNvSpPr/>
            <p:nvPr/>
          </p:nvSpPr>
          <p:spPr>
            <a:xfrm>
              <a:off x="7567560" y="329868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67560" y="39844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177040" y="329832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3480" y="399564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2760" y="51055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zahl = zahl + number /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Zuweisung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400" y="13651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kürz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5400" y="2570040"/>
            <a:ext cx="703872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++                i = i + 1           ++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--                i = i - 1           --i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+= &lt;expr&gt;        i = i + (&lt;expr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-= &lt;expr&gt;        i = i - (&lt;expr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*= &lt;expr&gt;        i = i * (&lt;expr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/= &lt;expr&gt;        i = i / (&lt;expr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%= &lt;expr&gt;        i = i % (&lt;expr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865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2846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64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00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4437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97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5229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02440" y="2865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2440" y="32846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Operatoren / Eigenschaft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fix-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,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kations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, /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ichheits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, !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weisungs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, +=, *=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05264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äzed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bsteigen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änderung der Präzedenz mit Hilfe von Klamm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oziativit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 bei Operatoren gleicher Präzede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unären Operatoren sind rechts-assoziat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binären Operatoren außer den Zuweisungsop. sind links-assoziat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weisungsoperatoren sind rechts-assoziat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Ort der Variablen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Varianten von Variablendefinition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 Definitio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lobale Variab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als Anweisung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kale Variab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schritt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int schritt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while (vornFrei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v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chritte++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schritt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2133720"/>
            <a:ext cx="0" cy="395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eispie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838080"/>
            <a:ext cx="85341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Hamster soll bis zur nächsten Wand laufen, dabei alle Körner einsammeln, die er findet, und an der Wand genauso viele Körner ablegen, wie er eingesammelt h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8880" y="2637000"/>
            <a:ext cx="56134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int anzah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kornDa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anzahl = anzahl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anzahl &gt; 0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anzahl = anzahl -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und Lebensdauer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ültigkeitsbereich einer Variab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Teil eines Programms, in dem eine Variable genutzt werden ka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lokalen Variab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chränkt sich auf den Block, in dem die Variable definiert wu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t ab der Stelle der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globalen Variab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fasst das gesamte Progra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nahmen: eigener Initialisierungsausdruck und Initialisierungsausdrücke vorher definierter globaler Variab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geme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Gültigkeitsbereich einer Variablen darf keine neue Variable gleichen Namens definiert werden; Ausnahme: Gleichnamige globale und lokale Variablen sind erlaubt (lokale überladen globale Variab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und Lebensdauer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bensdauer einer Variab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spanne, während der Speicherplatz für eine Variable reservier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lokalen Variab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t bei ihrer Definition und endet nach der vollständigen Abarbeitung des Blockes, in dem sie definiert wu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globalen Variab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fasst die gesamte Ausführungszeit des Progra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und Lebensdauer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Hamster soll bis zur nächsten Wand laufen, dabei alle Körner einsammeln, die er findet, und an der Wand genauso viele Körner ablegen, wie er eingesammelt h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rrektes Program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globaler Variabl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nzah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960" y="3124080"/>
            <a:ext cx="353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nt anzah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amm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amm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egeA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2400" y="2800440"/>
            <a:ext cx="3838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samml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kornDa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anzahl = anzahl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legeAb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anzahl &gt; 0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anzahl = anzahl -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41050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drü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en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052640"/>
            <a:ext cx="4105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der Variablen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ültigkeitsbereich und Lebensda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ekonven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ültigkeitsbereich und Lebensdauer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99072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Hamster soll bis zur nächsten Wand laufen, dabei alle Körner einsammeln, die er findet, und an der Wand genauso viele Körner ablegen, wie er eingesammelt h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haftes Program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zwei lokalen Variable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nzah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4960" y="3124080"/>
            <a:ext cx="35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amm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amm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egeA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23000" y="2800440"/>
            <a:ext cx="3838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samml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nt anzah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kornDa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anzahl = anzahl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legeAb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int anzah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anzahl &gt; 0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Courier New"/>
              </a:rPr>
              <a:t>anzahl = anzahl -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dekonvention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0200" y="1066320"/>
            <a:ext cx="7796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iablenname: Anfangsbuchstabe klein; Anfangsbuchstaben neuer Wortbestandteile gro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iablen möglichst einzeln deklar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mer explizit initialis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gleichnamigen globalen und lokalen Variablen verw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und hinter binären Operatoren ein Leer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das Gebirge überste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24000" y="2900520"/>
          <a:ext cx="44132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00520"/>
                    <a:ext cx="44132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fgabe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87280" y="3492360"/>
          <a:ext cx="289584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492360"/>
                    <a:ext cx="289584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04920" y="1066680"/>
            <a:ext cx="8370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Hamster soll die Körnerzahlen der oberen Reihen addieren und in der unteren Reihe able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landsch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932360" y="3492360"/>
          <a:ext cx="28083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492360"/>
                    <a:ext cx="280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Hamster soll bis zur nächsten Wand laufen, dabei alle Körner einsammeln, die er findet, und an der Wand genauso viele Körner ablegen, wie er eingesammel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wendige Voraussetz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dächtnis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ic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en/Rechnen/Vergleiche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590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42200" y="3413160"/>
            <a:ext cx="698076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8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"gefundene Anzahl ist 0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while (vornFrei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while (kornDa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im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"erhöhe gefundene Anzahl um 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8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"gefundene Anzahl größer als 0 ist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i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8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"erniedrige gefundene Anzahl um 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blen / Definitio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wendig für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ervierung von Speicherplat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Variablen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legung eines Namen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Variablendeklar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legung des Typ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entyp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er We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nitialisi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anzah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iablendeklaration/-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eklar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Bekanntgabe eines Namens für den Speicherbereich an den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Reservierung von Platz im Hauptspei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160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1360" y="48387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68120" y="5638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802040"/>
            <a:ext cx="2360880" cy="152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533556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07400" y="45086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8802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Gedächtni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876560" y="5945040"/>
            <a:ext cx="11430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blen / Definitio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49400"/>
            <a:ext cx="85122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Variablendefinition&gt; ::= &lt;Ty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Bezeichner&gt; "=" &lt;Ausdruc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"," &lt;Bezeichner&gt; "=" &lt;Ausdruck&g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;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yp&gt;                 ::= "i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wird Speicherplatz zum Speichern einer Zahl angelegt und initialisi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anzah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koelnischWasser = 471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eins = 1, zwei = 2, drei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blen / Initialisi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chenketten a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zimal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ktalen (führende 0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xadezimalen Ziffern (führendes 0x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x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0280" y="1066680"/>
            <a:ext cx="608004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 von 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izit durch Default-Wer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lizit mit Hilfe von Literalen bzw. Ausdrü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: Variablen immer explizit initialisier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Litera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Typ-spezifische Konst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wendig für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20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 Beispiel auf Foli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erationen (       Mathe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era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er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n und Zweck: Berechnung neu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alt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anzahl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nzahl = anzahl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60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4760" y="51022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33560" y="546732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57040" y="546732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314960" y="4723920"/>
            <a:ext cx="7596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2936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610240" y="4648320"/>
            <a:ext cx="53352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421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Ausdruck&gt; ::=   &lt;Liter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Variablen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"(" &lt;Ausdruck&gt; "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unär-Op&gt; &lt;Ausdru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 &lt;Ausdruck&gt; &lt;binär-Op&gt; &lt;Ausdru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teral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liefert Wert des 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ablenname:  liefert den aktuell in der Variablen gespeicherten 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3434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81000"/>
            <a:ext cx="853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druc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rbeitungsvorschrift, deren Ausführung ein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e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teht, inde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o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knüpf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usdrücke / Operator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21616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ves Vorzei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+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s Vorzei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-2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12 + 98 (= 1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trak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12 - 98 (= -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plik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6 * 5   (= 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nzzahl-Divis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7 / 3   (=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tbildung (modulo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7 % 3   (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960" y="1432080"/>
            <a:ext cx="40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efert wird die berechnete 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1-15T10:12:31Z</dcterms:modified>
  <cp:revision>84</cp:revision>
  <dc:subject/>
  <dc:title>gmds ‘96, Bonn, 18.9.96</dc:title>
</cp:coreProperties>
</file>