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523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066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52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3480" y="225360"/>
            <a:ext cx="7761240" cy="34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52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0440" y="800280"/>
            <a:ext cx="764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421840" y="6611760"/>
            <a:ext cx="63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10680" y="6611760"/>
            <a:ext cx="73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5240" y="6553080"/>
            <a:ext cx="880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68360" y="6537240"/>
            <a:ext cx="8496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erufsakademie Oldenburg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rogrammierung I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rundlagen der Programmierung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trich Bole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26C2A564-204A-423B-8D69-06874B4FF8CB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7921800" y="304920"/>
          <a:ext cx="993600" cy="59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21800" y="304920"/>
                    <a:ext cx="99360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rogrammierung I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2401920" cy="4157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30960" y="1625760"/>
            <a:ext cx="499032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rlesung an 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rufsakademie Oldenbu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errichtseinhei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ndlagen der Programm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82440" y="5502240"/>
            <a:ext cx="31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618ffd"/>
                </a:solidFill>
                <a:latin typeface="Arial"/>
              </a:rPr>
              <a:t>Dr. Dietrich B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rogrammiersprachen / Abstraktionsebene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exikalik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ültige Zeichen und Wörter der Spr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yntax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rrekter Aufbau von Sätzen der Spr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mantik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deutung von Sätzen der Spra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agmatik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satzbereich einer Spr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6800" y="3973680"/>
            <a:ext cx="134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uell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gra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40120" y="3959280"/>
            <a:ext cx="9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oken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l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45480" y="4035600"/>
            <a:ext cx="145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leitungs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396560" y="4035600"/>
            <a:ext cx="134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iel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gra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79240" y="5102280"/>
            <a:ext cx="1570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xikalis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cann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14200" y="5178600"/>
            <a:ext cx="162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aktis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ars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86440" y="5178600"/>
            <a:ext cx="2151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antis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e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gener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434340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14800" y="434340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434340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286000" y="4419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572000" y="4419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7010280" y="4419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Entwicklungsphasen (1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56120" y="2011320"/>
            <a:ext cx="392400" cy="30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89880" y="19922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962520" y="990720"/>
            <a:ext cx="1189440" cy="685800"/>
            <a:chOff x="3962520" y="990720"/>
            <a:chExt cx="1189440" cy="685800"/>
          </a:xfrm>
        </p:grpSpPr>
        <p:sp>
          <p:nvSpPr>
            <p:cNvPr id="92" name=""/>
            <p:cNvSpPr/>
            <p:nvPr/>
          </p:nvSpPr>
          <p:spPr>
            <a:xfrm>
              <a:off x="4023360" y="1154160"/>
              <a:ext cx="11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bl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62520" y="990720"/>
              <a:ext cx="1142640" cy="685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809880" y="5638680"/>
            <a:ext cx="1505520" cy="609480"/>
            <a:chOff x="3809880" y="5638680"/>
            <a:chExt cx="1505520" cy="609480"/>
          </a:xfrm>
        </p:grpSpPr>
        <p:sp>
          <p:nvSpPr>
            <p:cNvPr id="95" name=""/>
            <p:cNvSpPr/>
            <p:nvPr/>
          </p:nvSpPr>
          <p:spPr>
            <a:xfrm>
              <a:off x="3945960" y="5725800"/>
              <a:ext cx="136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gra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9880" y="5638680"/>
              <a:ext cx="144792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504600" y="3897360"/>
            <a:ext cx="20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97400" y="3886200"/>
            <a:ext cx="20574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505320" y="2057400"/>
            <a:ext cx="2057400" cy="457200"/>
            <a:chOff x="3505320" y="2057400"/>
            <a:chExt cx="2057400" cy="457200"/>
          </a:xfrm>
        </p:grpSpPr>
        <p:sp>
          <p:nvSpPr>
            <p:cNvPr id="100" name=""/>
            <p:cNvSpPr/>
            <p:nvPr/>
          </p:nvSpPr>
          <p:spPr>
            <a:xfrm>
              <a:off x="4014000" y="2114640"/>
              <a:ext cx="108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aly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05320" y="2057400"/>
              <a:ext cx="20574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505320" y="2971800"/>
            <a:ext cx="2057400" cy="457200"/>
            <a:chOff x="3505320" y="2971800"/>
            <a:chExt cx="2057400" cy="457200"/>
          </a:xfrm>
        </p:grpSpPr>
        <p:sp>
          <p:nvSpPr>
            <p:cNvPr id="103" name=""/>
            <p:cNvSpPr/>
            <p:nvPr/>
          </p:nvSpPr>
          <p:spPr>
            <a:xfrm>
              <a:off x="4039200" y="3028680"/>
              <a:ext cx="10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twur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05320" y="2971800"/>
              <a:ext cx="20574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505320" y="4800600"/>
            <a:ext cx="2057400" cy="471960"/>
            <a:chOff x="3505320" y="4800600"/>
            <a:chExt cx="2057400" cy="471960"/>
          </a:xfrm>
        </p:grpSpPr>
        <p:sp>
          <p:nvSpPr>
            <p:cNvPr id="106" name=""/>
            <p:cNvSpPr/>
            <p:nvPr/>
          </p:nvSpPr>
          <p:spPr>
            <a:xfrm>
              <a:off x="4180680" y="487368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05320" y="4800600"/>
              <a:ext cx="20574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629400" y="1905120"/>
            <a:ext cx="609480" cy="335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676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568400" y="2514600"/>
            <a:ext cx="324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568400" y="3429000"/>
            <a:ext cx="324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568400" y="4343400"/>
            <a:ext cx="324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666880" y="182880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18288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26668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66880" y="36576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44956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666520" y="502920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666520" y="411480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666520" y="320040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22860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32004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4114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50292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Entwicklungsphasen (2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990720"/>
            <a:ext cx="84312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ersuchung des Problems und des Problemumf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äzisierung der Problemstel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ur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wicklung des Algorith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eativer Prozess (Intelligenz, Erfahr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Entwicklungsphasen (3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4312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ieru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Übertragung des Entwurfs in eine Programmierspr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gabe in den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Überprüfung des Programms auf logische und Laufzeitfeh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Entwicklungsphasen (4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okumenta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akte Problemstel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chreibung der generellen Lösungsid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chreibung des Lösungsverfahr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gramm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chreibung der Testme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tokolle der Testläu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getretene 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ternative Lösungsansät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itere Tätigkeit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ffizienzverbess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rtierung auf andere Plattfor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Entwicklungswerkzeuge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ditor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Manipulation des Programm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Transformation eines Quellprogramms in ein Zielprogra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Inkrementelle Abarbeitung des Quell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Erkennung von Laufzeitfehl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ationshilf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Erstellung von Teilen der Dok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ufzeitsyste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Hilfsprogramme bei der Programmausfüh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grammbibliothek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Sammlungen fertiggestellter 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omputer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ät zur automatischen Verarbeitung von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 setzen sich zusammen 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 (physikalische Geräte; Zentraleinheit plus periphere Gerä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 (Program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beitswei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066680" y="3429000"/>
            <a:ext cx="689616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omputer / Hardware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n-Neumann-Rechnerarchitektu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3520" y="2165400"/>
            <a:ext cx="808344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omputer / Hardware / Rechenwerk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7640" y="1066320"/>
            <a:ext cx="8659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feinander folgende Befehle in aufeinander folgenden Z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equentieller) Zugriff durch Steuerwerk (via Befehlsadres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sche Befehle (Addition, Multiplikation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sche Befehle (Negation, Konjunktion, Vergleiche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ungbefeh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befeh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iebeopera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-/Ausgabebefeh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omputer / Hardware / Speicher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iche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fbewahrung von Programmen und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Bi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einstes Speicherelement (2 Zustände: 0 und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By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Bit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Zustände)                      Speicherz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Wor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oder 8 Speicherz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06920" y="29973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Gliederung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63480" y="1066320"/>
            <a:ext cx="7796160" cy="517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ierspra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wicklungspha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wicklungswerkze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omputer / Software (1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80880" y="1711440"/>
            <a:ext cx="838224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omputer / Software (2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nge aller Programme, die den Betrieb eines Computer bewältig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zessverwal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icherverwal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iverwal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räteverwal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stplat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Billiger Hintergrundspei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Logische Behälter zum Speichern von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zeichnis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Hilfsmittel für eine übersichtl. Strukturierung von Date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ndow-Syste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Aufteilung des Bildschirm in unabhängige "Window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ndow-Manag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Verwalter von "Window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Terminologie (1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mieru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stellung von Computerprogram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entwicklu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en zum Lösen von Problemen mit dem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mierspra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verständliche Notation zur Formulierung von Program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iner Programmiersprache formulierte Arbeitsanleitu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gorithmus) für einen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Terminologie (2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3600" y="990720"/>
            <a:ext cx="75056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grammier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twickler von Program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grammcode, Quellcode, Source-Cod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textuelle) Programmbeschreib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führbares Program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binäres) Programm in maschinenverständlicher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grammaufru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führung eines ausführbaren Program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lgorithmus / Motivatio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066320"/>
            <a:ext cx="6858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beitsanleitun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chrezep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telanleit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tu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elreg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ba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ge von Anweis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kteristik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weisungssequen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dingte Anweis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weisungsschlei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taten / Voraussetz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schwammige" Formulier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lgorithmus / Definitio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rbeitsanleitung zum Lösen eines Problems bzw. einer Aufgabe, die so präzise formuliert ist, dass sie von einem Computer ausgeführt werden k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ormulierung von Algorithm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mgangssprach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grammierspr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grammablaufplä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rukt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sführung von Algorithm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 einen Prozessor (Mensch / Computer)                Proz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mputer: schnell, zuverlässig, hohe Speicherfähig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553080" y="56386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lgorithmus / Beispiel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4200" y="1139760"/>
            <a:ext cx="716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ispi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rechnung der Summe aller Zahlen von 1 bis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6800" y="1825560"/>
            <a:ext cx="56948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mgangssprachliche Formulieru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ere für eine vorgegebene natürliche Zahl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Zahlen von 1 bis n. Dies ist das Result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1840" y="3502080"/>
            <a:ext cx="34117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grammiersprach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n = readI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erg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i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while (i &lt;= 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erg = erg +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 = i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rintInt(er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lgorithmus / Eigenschafte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505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heoretis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deutig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rametrisierbar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nit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führbar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rmin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terminiert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terminis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1523880"/>
            <a:ext cx="3733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axisreleva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rr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lständ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zient (Ze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rsam (Speich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weiter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eder verwend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a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tänd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3480" y="225360"/>
            <a:ext cx="77612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rogrammiersprachen / Klassifikatio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5053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wen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fä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1143000"/>
            <a:ext cx="37339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dig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erat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k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ädikat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elbasi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ktorienti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2895480"/>
            <a:ext cx="35053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trahierungsgr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chinenna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orienti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4800600"/>
            <a:ext cx="35049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omplexitä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blemspezifis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"general-purpos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18T10:43:32Z</dcterms:created>
  <dc:creator>SWL</dc:creator>
  <dc:description/>
  <cp:keywords/>
  <dc:language>en-US</dc:language>
  <cp:lastModifiedBy>Dietrich Boles</cp:lastModifiedBy>
  <cp:lastPrinted>2000-09-04T14:51:16Z</cp:lastPrinted>
  <dcterms:modified xsi:type="dcterms:W3CDTF">2005-10-17T06:21:37Z</dcterms:modified>
  <cp:revision>53</cp:revision>
  <dc:subject/>
  <dc:title>gmds ‘96, Bonn, 18.9.96</dc:title>
</cp:coreProperties>
</file>